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5652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88776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20996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444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460840" y="1942920"/>
            <a:ext cx="2794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160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8881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3364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6202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6504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994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66320" cy="80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6632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587760" y="54000"/>
            <a:ext cx="1981080" cy="65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7" y="3521"/>
                </a:moveTo>
                <a:lnTo>
                  <a:pt x="450" y="3258"/>
                </a:lnTo>
                <a:lnTo>
                  <a:pt x="7823" y="3258"/>
                </a:lnTo>
                <a:lnTo>
                  <a:pt x="8360" y="2102"/>
                </a:lnTo>
                <a:lnTo>
                  <a:pt x="8740" y="1419"/>
                </a:lnTo>
                <a:lnTo>
                  <a:pt x="9104" y="893"/>
                </a:lnTo>
                <a:lnTo>
                  <a:pt x="9554" y="578"/>
                </a:lnTo>
                <a:lnTo>
                  <a:pt x="10004" y="263"/>
                </a:lnTo>
                <a:lnTo>
                  <a:pt x="10471" y="105"/>
                </a:lnTo>
                <a:lnTo>
                  <a:pt x="11060" y="0"/>
                </a:lnTo>
                <a:lnTo>
                  <a:pt x="11735" y="263"/>
                </a:lnTo>
                <a:lnTo>
                  <a:pt x="12358" y="788"/>
                </a:lnTo>
                <a:lnTo>
                  <a:pt x="12808" y="1419"/>
                </a:lnTo>
                <a:lnTo>
                  <a:pt x="13292" y="2102"/>
                </a:lnTo>
                <a:lnTo>
                  <a:pt x="13604" y="2680"/>
                </a:lnTo>
                <a:lnTo>
                  <a:pt x="13881" y="3364"/>
                </a:lnTo>
                <a:lnTo>
                  <a:pt x="20925" y="3258"/>
                </a:lnTo>
                <a:lnTo>
                  <a:pt x="21167" y="3469"/>
                </a:lnTo>
                <a:lnTo>
                  <a:pt x="21340" y="3836"/>
                </a:lnTo>
                <a:lnTo>
                  <a:pt x="21496" y="4782"/>
                </a:lnTo>
                <a:lnTo>
                  <a:pt x="21565" y="5886"/>
                </a:lnTo>
                <a:lnTo>
                  <a:pt x="21600" y="7200"/>
                </a:lnTo>
                <a:lnTo>
                  <a:pt x="21600" y="18342"/>
                </a:lnTo>
                <a:lnTo>
                  <a:pt x="14002" y="18394"/>
                </a:lnTo>
                <a:lnTo>
                  <a:pt x="12115" y="21495"/>
                </a:lnTo>
                <a:lnTo>
                  <a:pt x="9052" y="21600"/>
                </a:lnTo>
                <a:lnTo>
                  <a:pt x="7563" y="18184"/>
                </a:lnTo>
                <a:lnTo>
                  <a:pt x="796" y="18342"/>
                </a:lnTo>
                <a:lnTo>
                  <a:pt x="0" y="18342"/>
                </a:lnTo>
                <a:lnTo>
                  <a:pt x="0" y="7988"/>
                </a:lnTo>
                <a:lnTo>
                  <a:pt x="0" y="6464"/>
                </a:lnTo>
                <a:lnTo>
                  <a:pt x="87" y="4940"/>
                </a:lnTo>
                <a:lnTo>
                  <a:pt x="156" y="4204"/>
                </a:lnTo>
                <a:lnTo>
                  <a:pt x="277" y="3521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3586320" y="452520"/>
            <a:ext cx="1982520" cy="30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4" y="4297"/>
                </a:moveTo>
                <a:lnTo>
                  <a:pt x="1038" y="4750"/>
                </a:lnTo>
                <a:lnTo>
                  <a:pt x="1366" y="4297"/>
                </a:lnTo>
                <a:lnTo>
                  <a:pt x="1695" y="4750"/>
                </a:lnTo>
                <a:lnTo>
                  <a:pt x="1937" y="6107"/>
                </a:lnTo>
                <a:lnTo>
                  <a:pt x="2214" y="7125"/>
                </a:lnTo>
                <a:lnTo>
                  <a:pt x="2663" y="6220"/>
                </a:lnTo>
                <a:lnTo>
                  <a:pt x="3044" y="5768"/>
                </a:lnTo>
                <a:lnTo>
                  <a:pt x="3597" y="5768"/>
                </a:lnTo>
                <a:lnTo>
                  <a:pt x="3995" y="5089"/>
                </a:lnTo>
                <a:lnTo>
                  <a:pt x="4341" y="5654"/>
                </a:lnTo>
                <a:lnTo>
                  <a:pt x="4652" y="6446"/>
                </a:lnTo>
                <a:lnTo>
                  <a:pt x="4929" y="6785"/>
                </a:lnTo>
                <a:lnTo>
                  <a:pt x="5378" y="5768"/>
                </a:lnTo>
                <a:lnTo>
                  <a:pt x="5845" y="5768"/>
                </a:lnTo>
                <a:lnTo>
                  <a:pt x="6537" y="6107"/>
                </a:lnTo>
                <a:lnTo>
                  <a:pt x="6814" y="7464"/>
                </a:lnTo>
                <a:lnTo>
                  <a:pt x="7263" y="7125"/>
                </a:lnTo>
                <a:lnTo>
                  <a:pt x="7903" y="6785"/>
                </a:lnTo>
                <a:lnTo>
                  <a:pt x="8353" y="9047"/>
                </a:lnTo>
                <a:lnTo>
                  <a:pt x="8612" y="9499"/>
                </a:lnTo>
                <a:lnTo>
                  <a:pt x="8872" y="11196"/>
                </a:lnTo>
                <a:lnTo>
                  <a:pt x="9010" y="13684"/>
                </a:lnTo>
                <a:lnTo>
                  <a:pt x="9269" y="14702"/>
                </a:lnTo>
                <a:lnTo>
                  <a:pt x="9598" y="14702"/>
                </a:lnTo>
                <a:lnTo>
                  <a:pt x="9996" y="14588"/>
                </a:lnTo>
                <a:lnTo>
                  <a:pt x="10394" y="14702"/>
                </a:lnTo>
                <a:lnTo>
                  <a:pt x="10670" y="15719"/>
                </a:lnTo>
                <a:lnTo>
                  <a:pt x="10895" y="14928"/>
                </a:lnTo>
                <a:lnTo>
                  <a:pt x="11258" y="14815"/>
                </a:lnTo>
                <a:lnTo>
                  <a:pt x="11621" y="13345"/>
                </a:lnTo>
                <a:lnTo>
                  <a:pt x="11898" y="13684"/>
                </a:lnTo>
                <a:lnTo>
                  <a:pt x="12382" y="13231"/>
                </a:lnTo>
                <a:lnTo>
                  <a:pt x="12590" y="11422"/>
                </a:lnTo>
                <a:lnTo>
                  <a:pt x="13161" y="9952"/>
                </a:lnTo>
                <a:lnTo>
                  <a:pt x="13299" y="7690"/>
                </a:lnTo>
                <a:lnTo>
                  <a:pt x="13593" y="6559"/>
                </a:lnTo>
                <a:lnTo>
                  <a:pt x="14077" y="5881"/>
                </a:lnTo>
                <a:lnTo>
                  <a:pt x="14337" y="6785"/>
                </a:lnTo>
                <a:lnTo>
                  <a:pt x="14596" y="6333"/>
                </a:lnTo>
                <a:lnTo>
                  <a:pt x="14907" y="7125"/>
                </a:lnTo>
                <a:lnTo>
                  <a:pt x="15236" y="6446"/>
                </a:lnTo>
                <a:lnTo>
                  <a:pt x="15858" y="7125"/>
                </a:lnTo>
                <a:lnTo>
                  <a:pt x="16135" y="7803"/>
                </a:lnTo>
                <a:lnTo>
                  <a:pt x="16446" y="5994"/>
                </a:lnTo>
                <a:lnTo>
                  <a:pt x="16654" y="5768"/>
                </a:lnTo>
                <a:lnTo>
                  <a:pt x="16896" y="6446"/>
                </a:lnTo>
                <a:lnTo>
                  <a:pt x="17104" y="6220"/>
                </a:lnTo>
                <a:lnTo>
                  <a:pt x="17398" y="4297"/>
                </a:lnTo>
                <a:lnTo>
                  <a:pt x="17899" y="3732"/>
                </a:lnTo>
                <a:lnTo>
                  <a:pt x="18141" y="3958"/>
                </a:lnTo>
                <a:lnTo>
                  <a:pt x="18383" y="3958"/>
                </a:lnTo>
                <a:lnTo>
                  <a:pt x="18747" y="1696"/>
                </a:lnTo>
                <a:lnTo>
                  <a:pt x="18954" y="679"/>
                </a:lnTo>
                <a:lnTo>
                  <a:pt x="19231" y="1131"/>
                </a:lnTo>
                <a:lnTo>
                  <a:pt x="19542" y="3619"/>
                </a:lnTo>
                <a:lnTo>
                  <a:pt x="19853" y="2036"/>
                </a:lnTo>
                <a:lnTo>
                  <a:pt x="20130" y="0"/>
                </a:lnTo>
                <a:lnTo>
                  <a:pt x="20389" y="113"/>
                </a:lnTo>
                <a:lnTo>
                  <a:pt x="20666" y="4297"/>
                </a:lnTo>
                <a:lnTo>
                  <a:pt x="20908" y="3619"/>
                </a:lnTo>
                <a:lnTo>
                  <a:pt x="21220" y="1809"/>
                </a:lnTo>
                <a:lnTo>
                  <a:pt x="21462" y="1809"/>
                </a:lnTo>
                <a:lnTo>
                  <a:pt x="21600" y="3166"/>
                </a:lnTo>
                <a:lnTo>
                  <a:pt x="21600" y="13797"/>
                </a:lnTo>
                <a:lnTo>
                  <a:pt x="14216" y="16285"/>
                </a:lnTo>
                <a:lnTo>
                  <a:pt x="11967" y="20695"/>
                </a:lnTo>
                <a:lnTo>
                  <a:pt x="9736" y="21600"/>
                </a:lnTo>
                <a:lnTo>
                  <a:pt x="8630" y="17642"/>
                </a:lnTo>
                <a:lnTo>
                  <a:pt x="7627" y="11083"/>
                </a:lnTo>
                <a:lnTo>
                  <a:pt x="0" y="9952"/>
                </a:lnTo>
                <a:lnTo>
                  <a:pt x="0" y="2149"/>
                </a:lnTo>
                <a:lnTo>
                  <a:pt x="121" y="3393"/>
                </a:lnTo>
                <a:lnTo>
                  <a:pt x="311" y="3732"/>
                </a:lnTo>
                <a:lnTo>
                  <a:pt x="553" y="3845"/>
                </a:lnTo>
                <a:lnTo>
                  <a:pt x="744" y="4297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3586320" y="507960"/>
            <a:ext cx="19825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7" y="13725"/>
                </a:moveTo>
                <a:lnTo>
                  <a:pt x="450" y="14063"/>
                </a:lnTo>
                <a:lnTo>
                  <a:pt x="657" y="14063"/>
                </a:lnTo>
                <a:lnTo>
                  <a:pt x="7782" y="14063"/>
                </a:lnTo>
                <a:lnTo>
                  <a:pt x="7921" y="15188"/>
                </a:lnTo>
                <a:lnTo>
                  <a:pt x="8422" y="17438"/>
                </a:lnTo>
                <a:lnTo>
                  <a:pt x="8837" y="18675"/>
                </a:lnTo>
                <a:lnTo>
                  <a:pt x="9200" y="19688"/>
                </a:lnTo>
                <a:lnTo>
                  <a:pt x="9667" y="20700"/>
                </a:lnTo>
                <a:lnTo>
                  <a:pt x="10151" y="21150"/>
                </a:lnTo>
                <a:lnTo>
                  <a:pt x="10912" y="21600"/>
                </a:lnTo>
                <a:lnTo>
                  <a:pt x="11621" y="21150"/>
                </a:lnTo>
                <a:lnTo>
                  <a:pt x="12503" y="20025"/>
                </a:lnTo>
                <a:lnTo>
                  <a:pt x="13299" y="17775"/>
                </a:lnTo>
                <a:lnTo>
                  <a:pt x="13783" y="15413"/>
                </a:lnTo>
                <a:lnTo>
                  <a:pt x="14025" y="14063"/>
                </a:lnTo>
                <a:lnTo>
                  <a:pt x="20926" y="14063"/>
                </a:lnTo>
                <a:lnTo>
                  <a:pt x="21168" y="13950"/>
                </a:lnTo>
                <a:lnTo>
                  <a:pt x="21341" y="13613"/>
                </a:lnTo>
                <a:lnTo>
                  <a:pt x="21496" y="12825"/>
                </a:lnTo>
                <a:lnTo>
                  <a:pt x="21565" y="11925"/>
                </a:lnTo>
                <a:lnTo>
                  <a:pt x="21600" y="10800"/>
                </a:lnTo>
                <a:lnTo>
                  <a:pt x="21600" y="1575"/>
                </a:lnTo>
                <a:lnTo>
                  <a:pt x="21410" y="0"/>
                </a:lnTo>
                <a:lnTo>
                  <a:pt x="21306" y="450"/>
                </a:lnTo>
                <a:lnTo>
                  <a:pt x="21220" y="2025"/>
                </a:lnTo>
                <a:lnTo>
                  <a:pt x="21150" y="3825"/>
                </a:lnTo>
                <a:lnTo>
                  <a:pt x="21064" y="3713"/>
                </a:lnTo>
                <a:lnTo>
                  <a:pt x="20943" y="3600"/>
                </a:lnTo>
                <a:lnTo>
                  <a:pt x="20683" y="2700"/>
                </a:lnTo>
                <a:lnTo>
                  <a:pt x="20510" y="1913"/>
                </a:lnTo>
                <a:lnTo>
                  <a:pt x="20234" y="1575"/>
                </a:lnTo>
                <a:lnTo>
                  <a:pt x="19940" y="2363"/>
                </a:lnTo>
                <a:lnTo>
                  <a:pt x="19680" y="3713"/>
                </a:lnTo>
                <a:lnTo>
                  <a:pt x="19473" y="2813"/>
                </a:lnTo>
                <a:lnTo>
                  <a:pt x="19317" y="2700"/>
                </a:lnTo>
                <a:lnTo>
                  <a:pt x="19075" y="1913"/>
                </a:lnTo>
                <a:lnTo>
                  <a:pt x="18833" y="2138"/>
                </a:lnTo>
                <a:lnTo>
                  <a:pt x="18660" y="3038"/>
                </a:lnTo>
                <a:lnTo>
                  <a:pt x="18574" y="4275"/>
                </a:lnTo>
                <a:lnTo>
                  <a:pt x="18383" y="3713"/>
                </a:lnTo>
                <a:lnTo>
                  <a:pt x="18089" y="3713"/>
                </a:lnTo>
                <a:lnTo>
                  <a:pt x="17726" y="3150"/>
                </a:lnTo>
                <a:lnTo>
                  <a:pt x="17415" y="4275"/>
                </a:lnTo>
                <a:lnTo>
                  <a:pt x="17121" y="2700"/>
                </a:lnTo>
                <a:lnTo>
                  <a:pt x="16758" y="3713"/>
                </a:lnTo>
                <a:lnTo>
                  <a:pt x="16412" y="6188"/>
                </a:lnTo>
                <a:lnTo>
                  <a:pt x="16118" y="5288"/>
                </a:lnTo>
                <a:lnTo>
                  <a:pt x="15858" y="4388"/>
                </a:lnTo>
                <a:lnTo>
                  <a:pt x="15582" y="3825"/>
                </a:lnTo>
                <a:lnTo>
                  <a:pt x="15219" y="4275"/>
                </a:lnTo>
                <a:lnTo>
                  <a:pt x="14648" y="4950"/>
                </a:lnTo>
                <a:lnTo>
                  <a:pt x="14146" y="4163"/>
                </a:lnTo>
                <a:lnTo>
                  <a:pt x="13956" y="4838"/>
                </a:lnTo>
                <a:lnTo>
                  <a:pt x="13731" y="6413"/>
                </a:lnTo>
                <a:lnTo>
                  <a:pt x="13541" y="9113"/>
                </a:lnTo>
                <a:lnTo>
                  <a:pt x="13334" y="10463"/>
                </a:lnTo>
                <a:lnTo>
                  <a:pt x="13230" y="12488"/>
                </a:lnTo>
                <a:lnTo>
                  <a:pt x="13005" y="13275"/>
                </a:lnTo>
                <a:lnTo>
                  <a:pt x="12607" y="13725"/>
                </a:lnTo>
                <a:lnTo>
                  <a:pt x="12158" y="13950"/>
                </a:lnTo>
                <a:lnTo>
                  <a:pt x="12054" y="14850"/>
                </a:lnTo>
                <a:lnTo>
                  <a:pt x="11466" y="14625"/>
                </a:lnTo>
                <a:lnTo>
                  <a:pt x="10964" y="15413"/>
                </a:lnTo>
                <a:lnTo>
                  <a:pt x="10463" y="15300"/>
                </a:lnTo>
                <a:lnTo>
                  <a:pt x="9615" y="16313"/>
                </a:lnTo>
                <a:lnTo>
                  <a:pt x="9148" y="13725"/>
                </a:lnTo>
                <a:lnTo>
                  <a:pt x="8630" y="13050"/>
                </a:lnTo>
                <a:lnTo>
                  <a:pt x="8094" y="8550"/>
                </a:lnTo>
                <a:lnTo>
                  <a:pt x="7851" y="6413"/>
                </a:lnTo>
                <a:lnTo>
                  <a:pt x="7592" y="5850"/>
                </a:lnTo>
                <a:lnTo>
                  <a:pt x="6900" y="5288"/>
                </a:lnTo>
                <a:lnTo>
                  <a:pt x="6347" y="4725"/>
                </a:lnTo>
                <a:lnTo>
                  <a:pt x="5742" y="3713"/>
                </a:lnTo>
                <a:lnTo>
                  <a:pt x="5171" y="4725"/>
                </a:lnTo>
                <a:lnTo>
                  <a:pt x="4531" y="2700"/>
                </a:lnTo>
                <a:lnTo>
                  <a:pt x="4029" y="2700"/>
                </a:lnTo>
                <a:lnTo>
                  <a:pt x="3701" y="3938"/>
                </a:lnTo>
                <a:lnTo>
                  <a:pt x="3493" y="2925"/>
                </a:lnTo>
                <a:lnTo>
                  <a:pt x="3217" y="3600"/>
                </a:lnTo>
                <a:lnTo>
                  <a:pt x="2853" y="3713"/>
                </a:lnTo>
                <a:lnTo>
                  <a:pt x="2508" y="4163"/>
                </a:lnTo>
                <a:lnTo>
                  <a:pt x="2110" y="4950"/>
                </a:lnTo>
                <a:lnTo>
                  <a:pt x="1764" y="3938"/>
                </a:lnTo>
                <a:lnTo>
                  <a:pt x="1418" y="4500"/>
                </a:lnTo>
                <a:lnTo>
                  <a:pt x="986" y="4838"/>
                </a:lnTo>
                <a:lnTo>
                  <a:pt x="709" y="4500"/>
                </a:lnTo>
                <a:lnTo>
                  <a:pt x="190" y="4275"/>
                </a:lnTo>
                <a:lnTo>
                  <a:pt x="0" y="5288"/>
                </a:lnTo>
                <a:lnTo>
                  <a:pt x="17" y="8325"/>
                </a:lnTo>
                <a:lnTo>
                  <a:pt x="52" y="11025"/>
                </a:lnTo>
                <a:lnTo>
                  <a:pt x="156" y="13275"/>
                </a:lnTo>
                <a:lnTo>
                  <a:pt x="277" y="13725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3598920" y="557280"/>
            <a:ext cx="1946160" cy="22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73" y="7250"/>
                </a:moveTo>
                <a:lnTo>
                  <a:pt x="5303" y="6797"/>
                </a:lnTo>
                <a:lnTo>
                  <a:pt x="4634" y="7552"/>
                </a:lnTo>
                <a:lnTo>
                  <a:pt x="3858" y="7552"/>
                </a:lnTo>
                <a:lnTo>
                  <a:pt x="2837" y="7250"/>
                </a:lnTo>
                <a:lnTo>
                  <a:pt x="1709" y="7552"/>
                </a:lnTo>
                <a:lnTo>
                  <a:pt x="1145" y="7703"/>
                </a:lnTo>
                <a:lnTo>
                  <a:pt x="705" y="7401"/>
                </a:lnTo>
                <a:lnTo>
                  <a:pt x="282" y="7703"/>
                </a:lnTo>
                <a:lnTo>
                  <a:pt x="141" y="5438"/>
                </a:lnTo>
                <a:lnTo>
                  <a:pt x="18" y="3625"/>
                </a:lnTo>
                <a:lnTo>
                  <a:pt x="0" y="6948"/>
                </a:lnTo>
                <a:lnTo>
                  <a:pt x="141" y="10120"/>
                </a:lnTo>
                <a:lnTo>
                  <a:pt x="810" y="9667"/>
                </a:lnTo>
                <a:lnTo>
                  <a:pt x="1427" y="9365"/>
                </a:lnTo>
                <a:lnTo>
                  <a:pt x="1815" y="9516"/>
                </a:lnTo>
                <a:lnTo>
                  <a:pt x="2149" y="9667"/>
                </a:lnTo>
                <a:lnTo>
                  <a:pt x="2361" y="9818"/>
                </a:lnTo>
                <a:lnTo>
                  <a:pt x="2995" y="9667"/>
                </a:lnTo>
                <a:lnTo>
                  <a:pt x="3594" y="10271"/>
                </a:lnTo>
                <a:lnTo>
                  <a:pt x="5004" y="9667"/>
                </a:lnTo>
                <a:lnTo>
                  <a:pt x="6008" y="9516"/>
                </a:lnTo>
                <a:lnTo>
                  <a:pt x="6854" y="9667"/>
                </a:lnTo>
                <a:lnTo>
                  <a:pt x="7752" y="9667"/>
                </a:lnTo>
                <a:lnTo>
                  <a:pt x="8192" y="13897"/>
                </a:lnTo>
                <a:lnTo>
                  <a:pt x="8545" y="15860"/>
                </a:lnTo>
                <a:lnTo>
                  <a:pt x="9285" y="19787"/>
                </a:lnTo>
                <a:lnTo>
                  <a:pt x="9831" y="20543"/>
                </a:lnTo>
                <a:lnTo>
                  <a:pt x="10500" y="21600"/>
                </a:lnTo>
                <a:lnTo>
                  <a:pt x="11311" y="21600"/>
                </a:lnTo>
                <a:lnTo>
                  <a:pt x="12051" y="20694"/>
                </a:lnTo>
                <a:lnTo>
                  <a:pt x="12826" y="18277"/>
                </a:lnTo>
                <a:lnTo>
                  <a:pt x="13390" y="16011"/>
                </a:lnTo>
                <a:lnTo>
                  <a:pt x="13848" y="12386"/>
                </a:lnTo>
                <a:lnTo>
                  <a:pt x="14200" y="10876"/>
                </a:lnTo>
                <a:lnTo>
                  <a:pt x="14570" y="10120"/>
                </a:lnTo>
                <a:lnTo>
                  <a:pt x="15451" y="11178"/>
                </a:lnTo>
                <a:lnTo>
                  <a:pt x="16508" y="10271"/>
                </a:lnTo>
                <a:lnTo>
                  <a:pt x="17530" y="10422"/>
                </a:lnTo>
                <a:lnTo>
                  <a:pt x="17988" y="10120"/>
                </a:lnTo>
                <a:lnTo>
                  <a:pt x="18869" y="10573"/>
                </a:lnTo>
                <a:lnTo>
                  <a:pt x="19697" y="10120"/>
                </a:lnTo>
                <a:lnTo>
                  <a:pt x="20437" y="10876"/>
                </a:lnTo>
                <a:lnTo>
                  <a:pt x="21336" y="10422"/>
                </a:lnTo>
                <a:lnTo>
                  <a:pt x="21547" y="8459"/>
                </a:lnTo>
                <a:lnTo>
                  <a:pt x="21600" y="5136"/>
                </a:lnTo>
                <a:lnTo>
                  <a:pt x="21565" y="0"/>
                </a:lnTo>
                <a:lnTo>
                  <a:pt x="21336" y="5589"/>
                </a:lnTo>
                <a:lnTo>
                  <a:pt x="21212" y="8308"/>
                </a:lnTo>
                <a:lnTo>
                  <a:pt x="20631" y="8912"/>
                </a:lnTo>
                <a:lnTo>
                  <a:pt x="19592" y="8761"/>
                </a:lnTo>
                <a:lnTo>
                  <a:pt x="18746" y="8459"/>
                </a:lnTo>
                <a:lnTo>
                  <a:pt x="17319" y="8157"/>
                </a:lnTo>
                <a:lnTo>
                  <a:pt x="16579" y="8761"/>
                </a:lnTo>
                <a:lnTo>
                  <a:pt x="15592" y="8459"/>
                </a:lnTo>
                <a:lnTo>
                  <a:pt x="14993" y="9365"/>
                </a:lnTo>
                <a:lnTo>
                  <a:pt x="14588" y="8308"/>
                </a:lnTo>
                <a:lnTo>
                  <a:pt x="14359" y="8006"/>
                </a:lnTo>
                <a:lnTo>
                  <a:pt x="14165" y="6948"/>
                </a:lnTo>
                <a:lnTo>
                  <a:pt x="14253" y="4834"/>
                </a:lnTo>
                <a:lnTo>
                  <a:pt x="14253" y="2568"/>
                </a:lnTo>
                <a:lnTo>
                  <a:pt x="14059" y="3323"/>
                </a:lnTo>
                <a:lnTo>
                  <a:pt x="13848" y="7401"/>
                </a:lnTo>
                <a:lnTo>
                  <a:pt x="13390" y="10876"/>
                </a:lnTo>
                <a:lnTo>
                  <a:pt x="13126" y="13141"/>
                </a:lnTo>
                <a:lnTo>
                  <a:pt x="12650" y="15256"/>
                </a:lnTo>
                <a:lnTo>
                  <a:pt x="12350" y="14803"/>
                </a:lnTo>
                <a:lnTo>
                  <a:pt x="11822" y="16917"/>
                </a:lnTo>
                <a:lnTo>
                  <a:pt x="11346" y="17824"/>
                </a:lnTo>
                <a:lnTo>
                  <a:pt x="10888" y="18730"/>
                </a:lnTo>
                <a:lnTo>
                  <a:pt x="10307" y="16313"/>
                </a:lnTo>
                <a:lnTo>
                  <a:pt x="9813" y="16615"/>
                </a:lnTo>
                <a:lnTo>
                  <a:pt x="9620" y="13897"/>
                </a:lnTo>
                <a:lnTo>
                  <a:pt x="9162" y="14048"/>
                </a:lnTo>
                <a:lnTo>
                  <a:pt x="8932" y="14803"/>
                </a:lnTo>
                <a:lnTo>
                  <a:pt x="8562" y="12990"/>
                </a:lnTo>
                <a:lnTo>
                  <a:pt x="8263" y="11631"/>
                </a:lnTo>
                <a:lnTo>
                  <a:pt x="8122" y="9365"/>
                </a:lnTo>
                <a:lnTo>
                  <a:pt x="7858" y="4380"/>
                </a:lnTo>
                <a:lnTo>
                  <a:pt x="7611" y="3625"/>
                </a:lnTo>
                <a:lnTo>
                  <a:pt x="7488" y="6646"/>
                </a:lnTo>
                <a:lnTo>
                  <a:pt x="7276" y="6495"/>
                </a:lnTo>
                <a:lnTo>
                  <a:pt x="6554" y="8308"/>
                </a:lnTo>
                <a:lnTo>
                  <a:pt x="5973" y="7250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4869000" y="249120"/>
            <a:ext cx="12060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95" y="508"/>
                </a:moveTo>
                <a:lnTo>
                  <a:pt x="13358" y="2118"/>
                </a:lnTo>
                <a:lnTo>
                  <a:pt x="21600" y="2287"/>
                </a:lnTo>
                <a:lnTo>
                  <a:pt x="18474" y="5167"/>
                </a:lnTo>
                <a:lnTo>
                  <a:pt x="18758" y="7369"/>
                </a:lnTo>
                <a:lnTo>
                  <a:pt x="20747" y="9318"/>
                </a:lnTo>
                <a:lnTo>
                  <a:pt x="17337" y="11266"/>
                </a:lnTo>
                <a:lnTo>
                  <a:pt x="16200" y="13299"/>
                </a:lnTo>
                <a:lnTo>
                  <a:pt x="14495" y="15332"/>
                </a:lnTo>
                <a:lnTo>
                  <a:pt x="11937" y="16687"/>
                </a:lnTo>
                <a:lnTo>
                  <a:pt x="9095" y="18042"/>
                </a:lnTo>
                <a:lnTo>
                  <a:pt x="5684" y="19482"/>
                </a:lnTo>
                <a:lnTo>
                  <a:pt x="3695" y="20414"/>
                </a:lnTo>
                <a:lnTo>
                  <a:pt x="0" y="21600"/>
                </a:lnTo>
                <a:lnTo>
                  <a:pt x="2274" y="19482"/>
                </a:lnTo>
                <a:lnTo>
                  <a:pt x="6821" y="17958"/>
                </a:lnTo>
                <a:lnTo>
                  <a:pt x="5968" y="16264"/>
                </a:lnTo>
                <a:lnTo>
                  <a:pt x="10232" y="14146"/>
                </a:lnTo>
                <a:lnTo>
                  <a:pt x="12505" y="11605"/>
                </a:lnTo>
                <a:lnTo>
                  <a:pt x="11368" y="9148"/>
                </a:lnTo>
                <a:lnTo>
                  <a:pt x="12221" y="7200"/>
                </a:lnTo>
                <a:lnTo>
                  <a:pt x="11368" y="5760"/>
                </a:lnTo>
                <a:lnTo>
                  <a:pt x="5400" y="3049"/>
                </a:lnTo>
                <a:lnTo>
                  <a:pt x="1705" y="254"/>
                </a:lnTo>
                <a:lnTo>
                  <a:pt x="14211" y="0"/>
                </a:lnTo>
                <a:lnTo>
                  <a:pt x="14495" y="50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4595"/>
                </a:moveTo>
                <a:lnTo>
                  <a:pt x="0" y="18264"/>
                </a:lnTo>
                <a:lnTo>
                  <a:pt x="0" y="21600"/>
                </a:lnTo>
                <a:lnTo>
                  <a:pt x="53" y="18848"/>
                </a:lnTo>
                <a:lnTo>
                  <a:pt x="70" y="16763"/>
                </a:lnTo>
                <a:lnTo>
                  <a:pt x="88" y="12843"/>
                </a:lnTo>
                <a:lnTo>
                  <a:pt x="141" y="11008"/>
                </a:lnTo>
                <a:lnTo>
                  <a:pt x="281" y="10341"/>
                </a:lnTo>
                <a:lnTo>
                  <a:pt x="404" y="10842"/>
                </a:lnTo>
                <a:lnTo>
                  <a:pt x="580" y="10925"/>
                </a:lnTo>
                <a:lnTo>
                  <a:pt x="826" y="11509"/>
                </a:lnTo>
                <a:lnTo>
                  <a:pt x="984" y="12176"/>
                </a:lnTo>
                <a:lnTo>
                  <a:pt x="1160" y="12176"/>
                </a:lnTo>
                <a:lnTo>
                  <a:pt x="1318" y="11759"/>
                </a:lnTo>
                <a:lnTo>
                  <a:pt x="1494" y="10675"/>
                </a:lnTo>
                <a:lnTo>
                  <a:pt x="1634" y="10758"/>
                </a:lnTo>
                <a:lnTo>
                  <a:pt x="1898" y="11592"/>
                </a:lnTo>
                <a:lnTo>
                  <a:pt x="2056" y="12009"/>
                </a:lnTo>
                <a:lnTo>
                  <a:pt x="2214" y="12426"/>
                </a:lnTo>
                <a:lnTo>
                  <a:pt x="2390" y="12593"/>
                </a:lnTo>
                <a:lnTo>
                  <a:pt x="2671" y="12009"/>
                </a:lnTo>
                <a:lnTo>
                  <a:pt x="3005" y="13177"/>
                </a:lnTo>
                <a:lnTo>
                  <a:pt x="3251" y="12593"/>
                </a:lnTo>
                <a:lnTo>
                  <a:pt x="3656" y="11509"/>
                </a:lnTo>
                <a:lnTo>
                  <a:pt x="3902" y="11509"/>
                </a:lnTo>
                <a:lnTo>
                  <a:pt x="4183" y="10592"/>
                </a:lnTo>
                <a:lnTo>
                  <a:pt x="4376" y="10175"/>
                </a:lnTo>
                <a:lnTo>
                  <a:pt x="4657" y="11342"/>
                </a:lnTo>
                <a:lnTo>
                  <a:pt x="4886" y="11008"/>
                </a:lnTo>
                <a:lnTo>
                  <a:pt x="5079" y="11509"/>
                </a:lnTo>
                <a:lnTo>
                  <a:pt x="5202" y="11509"/>
                </a:lnTo>
                <a:lnTo>
                  <a:pt x="5360" y="11509"/>
                </a:lnTo>
                <a:lnTo>
                  <a:pt x="5483" y="11926"/>
                </a:lnTo>
                <a:lnTo>
                  <a:pt x="5677" y="11509"/>
                </a:lnTo>
                <a:lnTo>
                  <a:pt x="5817" y="10341"/>
                </a:lnTo>
                <a:lnTo>
                  <a:pt x="6362" y="11425"/>
                </a:lnTo>
                <a:lnTo>
                  <a:pt x="6608" y="12676"/>
                </a:lnTo>
                <a:lnTo>
                  <a:pt x="6714" y="14678"/>
                </a:lnTo>
                <a:lnTo>
                  <a:pt x="7891" y="10091"/>
                </a:lnTo>
                <a:lnTo>
                  <a:pt x="8172" y="8423"/>
                </a:lnTo>
                <a:lnTo>
                  <a:pt x="8454" y="7589"/>
                </a:lnTo>
                <a:lnTo>
                  <a:pt x="8770" y="6922"/>
                </a:lnTo>
                <a:lnTo>
                  <a:pt x="8717" y="8173"/>
                </a:lnTo>
                <a:lnTo>
                  <a:pt x="8366" y="10258"/>
                </a:lnTo>
                <a:lnTo>
                  <a:pt x="8594" y="9924"/>
                </a:lnTo>
                <a:lnTo>
                  <a:pt x="8928" y="9174"/>
                </a:lnTo>
                <a:lnTo>
                  <a:pt x="9174" y="9674"/>
                </a:lnTo>
                <a:lnTo>
                  <a:pt x="9332" y="11008"/>
                </a:lnTo>
                <a:lnTo>
                  <a:pt x="9245" y="12176"/>
                </a:lnTo>
                <a:lnTo>
                  <a:pt x="9561" y="12343"/>
                </a:lnTo>
                <a:lnTo>
                  <a:pt x="9825" y="13177"/>
                </a:lnTo>
                <a:lnTo>
                  <a:pt x="9930" y="14178"/>
                </a:lnTo>
                <a:lnTo>
                  <a:pt x="10159" y="13927"/>
                </a:lnTo>
                <a:lnTo>
                  <a:pt x="10299" y="14845"/>
                </a:lnTo>
                <a:lnTo>
                  <a:pt x="10510" y="16346"/>
                </a:lnTo>
                <a:lnTo>
                  <a:pt x="10686" y="16096"/>
                </a:lnTo>
                <a:lnTo>
                  <a:pt x="10580" y="14845"/>
                </a:lnTo>
                <a:lnTo>
                  <a:pt x="10510" y="13510"/>
                </a:lnTo>
                <a:lnTo>
                  <a:pt x="10369" y="13010"/>
                </a:lnTo>
                <a:lnTo>
                  <a:pt x="10211" y="12093"/>
                </a:lnTo>
                <a:lnTo>
                  <a:pt x="10299" y="10175"/>
                </a:lnTo>
                <a:lnTo>
                  <a:pt x="10176" y="8840"/>
                </a:lnTo>
                <a:lnTo>
                  <a:pt x="9860" y="8590"/>
                </a:lnTo>
                <a:lnTo>
                  <a:pt x="9948" y="7589"/>
                </a:lnTo>
                <a:lnTo>
                  <a:pt x="10159" y="6755"/>
                </a:lnTo>
                <a:lnTo>
                  <a:pt x="9614" y="6839"/>
                </a:lnTo>
                <a:lnTo>
                  <a:pt x="9860" y="6255"/>
                </a:lnTo>
                <a:lnTo>
                  <a:pt x="10317" y="5337"/>
                </a:lnTo>
                <a:lnTo>
                  <a:pt x="10088" y="5171"/>
                </a:lnTo>
                <a:lnTo>
                  <a:pt x="9491" y="5921"/>
                </a:lnTo>
                <a:lnTo>
                  <a:pt x="9209" y="5421"/>
                </a:lnTo>
                <a:lnTo>
                  <a:pt x="9403" y="4670"/>
                </a:lnTo>
                <a:lnTo>
                  <a:pt x="9825" y="4420"/>
                </a:lnTo>
                <a:lnTo>
                  <a:pt x="10176" y="4170"/>
                </a:lnTo>
                <a:lnTo>
                  <a:pt x="10545" y="3503"/>
                </a:lnTo>
                <a:lnTo>
                  <a:pt x="11160" y="3086"/>
                </a:lnTo>
                <a:lnTo>
                  <a:pt x="11600" y="3419"/>
                </a:lnTo>
                <a:lnTo>
                  <a:pt x="11881" y="4587"/>
                </a:lnTo>
                <a:lnTo>
                  <a:pt x="12162" y="5254"/>
                </a:lnTo>
                <a:lnTo>
                  <a:pt x="12373" y="4754"/>
                </a:lnTo>
                <a:lnTo>
                  <a:pt x="12672" y="5004"/>
                </a:lnTo>
                <a:lnTo>
                  <a:pt x="13023" y="6005"/>
                </a:lnTo>
                <a:lnTo>
                  <a:pt x="13322" y="7339"/>
                </a:lnTo>
                <a:lnTo>
                  <a:pt x="13586" y="9007"/>
                </a:lnTo>
                <a:lnTo>
                  <a:pt x="14007" y="9591"/>
                </a:lnTo>
                <a:lnTo>
                  <a:pt x="14341" y="10675"/>
                </a:lnTo>
                <a:lnTo>
                  <a:pt x="14552" y="11592"/>
                </a:lnTo>
                <a:lnTo>
                  <a:pt x="14869" y="12593"/>
                </a:lnTo>
                <a:lnTo>
                  <a:pt x="15220" y="12259"/>
                </a:lnTo>
                <a:lnTo>
                  <a:pt x="15449" y="11759"/>
                </a:lnTo>
                <a:lnTo>
                  <a:pt x="15888" y="11759"/>
                </a:lnTo>
                <a:lnTo>
                  <a:pt x="16117" y="10508"/>
                </a:lnTo>
                <a:lnTo>
                  <a:pt x="16310" y="10675"/>
                </a:lnTo>
                <a:lnTo>
                  <a:pt x="16450" y="10675"/>
                </a:lnTo>
                <a:lnTo>
                  <a:pt x="16626" y="11175"/>
                </a:lnTo>
                <a:lnTo>
                  <a:pt x="16820" y="11592"/>
                </a:lnTo>
                <a:lnTo>
                  <a:pt x="16960" y="10758"/>
                </a:lnTo>
                <a:lnTo>
                  <a:pt x="17118" y="10508"/>
                </a:lnTo>
                <a:lnTo>
                  <a:pt x="17241" y="10842"/>
                </a:lnTo>
                <a:lnTo>
                  <a:pt x="17382" y="10341"/>
                </a:lnTo>
                <a:lnTo>
                  <a:pt x="17663" y="11008"/>
                </a:lnTo>
                <a:lnTo>
                  <a:pt x="17839" y="12176"/>
                </a:lnTo>
                <a:lnTo>
                  <a:pt x="18015" y="12259"/>
                </a:lnTo>
                <a:lnTo>
                  <a:pt x="18138" y="12426"/>
                </a:lnTo>
                <a:lnTo>
                  <a:pt x="18296" y="12009"/>
                </a:lnTo>
                <a:lnTo>
                  <a:pt x="18419" y="11509"/>
                </a:lnTo>
                <a:lnTo>
                  <a:pt x="18524" y="11342"/>
                </a:lnTo>
                <a:lnTo>
                  <a:pt x="18683" y="10842"/>
                </a:lnTo>
                <a:lnTo>
                  <a:pt x="18876" y="10842"/>
                </a:lnTo>
                <a:lnTo>
                  <a:pt x="19052" y="11592"/>
                </a:lnTo>
                <a:lnTo>
                  <a:pt x="19315" y="12176"/>
                </a:lnTo>
                <a:lnTo>
                  <a:pt x="19544" y="11592"/>
                </a:lnTo>
                <a:lnTo>
                  <a:pt x="19667" y="11342"/>
                </a:lnTo>
                <a:lnTo>
                  <a:pt x="19825" y="11592"/>
                </a:lnTo>
                <a:lnTo>
                  <a:pt x="19948" y="11759"/>
                </a:lnTo>
                <a:lnTo>
                  <a:pt x="20106" y="12426"/>
                </a:lnTo>
                <a:lnTo>
                  <a:pt x="20282" y="12426"/>
                </a:lnTo>
                <a:lnTo>
                  <a:pt x="20493" y="12176"/>
                </a:lnTo>
                <a:lnTo>
                  <a:pt x="20739" y="11926"/>
                </a:lnTo>
                <a:lnTo>
                  <a:pt x="21038" y="11509"/>
                </a:lnTo>
                <a:lnTo>
                  <a:pt x="21248" y="11926"/>
                </a:lnTo>
                <a:lnTo>
                  <a:pt x="21372" y="12510"/>
                </a:lnTo>
                <a:lnTo>
                  <a:pt x="21459" y="13761"/>
                </a:lnTo>
                <a:lnTo>
                  <a:pt x="21530" y="15762"/>
                </a:lnTo>
                <a:lnTo>
                  <a:pt x="21600" y="18514"/>
                </a:lnTo>
                <a:lnTo>
                  <a:pt x="21600" y="12843"/>
                </a:lnTo>
                <a:lnTo>
                  <a:pt x="21600" y="11425"/>
                </a:lnTo>
                <a:lnTo>
                  <a:pt x="21565" y="10508"/>
                </a:lnTo>
                <a:lnTo>
                  <a:pt x="21512" y="9341"/>
                </a:lnTo>
                <a:lnTo>
                  <a:pt x="21407" y="8340"/>
                </a:lnTo>
                <a:lnTo>
                  <a:pt x="21178" y="7923"/>
                </a:lnTo>
                <a:lnTo>
                  <a:pt x="20862" y="7756"/>
                </a:lnTo>
                <a:lnTo>
                  <a:pt x="20598" y="7923"/>
                </a:lnTo>
                <a:lnTo>
                  <a:pt x="20317" y="7589"/>
                </a:lnTo>
                <a:lnTo>
                  <a:pt x="20036" y="8423"/>
                </a:lnTo>
                <a:lnTo>
                  <a:pt x="19755" y="8006"/>
                </a:lnTo>
                <a:lnTo>
                  <a:pt x="19509" y="7756"/>
                </a:lnTo>
                <a:lnTo>
                  <a:pt x="19315" y="7756"/>
                </a:lnTo>
                <a:lnTo>
                  <a:pt x="18823" y="8006"/>
                </a:lnTo>
                <a:lnTo>
                  <a:pt x="18559" y="8173"/>
                </a:lnTo>
                <a:lnTo>
                  <a:pt x="18278" y="7923"/>
                </a:lnTo>
                <a:lnTo>
                  <a:pt x="17997" y="8256"/>
                </a:lnTo>
                <a:lnTo>
                  <a:pt x="17646" y="7923"/>
                </a:lnTo>
                <a:lnTo>
                  <a:pt x="17505" y="7756"/>
                </a:lnTo>
                <a:lnTo>
                  <a:pt x="17241" y="7756"/>
                </a:lnTo>
                <a:lnTo>
                  <a:pt x="16978" y="7589"/>
                </a:lnTo>
                <a:lnTo>
                  <a:pt x="16784" y="8006"/>
                </a:lnTo>
                <a:lnTo>
                  <a:pt x="16626" y="7923"/>
                </a:lnTo>
                <a:lnTo>
                  <a:pt x="16275" y="7756"/>
                </a:lnTo>
                <a:lnTo>
                  <a:pt x="15976" y="8006"/>
                </a:lnTo>
                <a:lnTo>
                  <a:pt x="15712" y="8006"/>
                </a:lnTo>
                <a:lnTo>
                  <a:pt x="15396" y="7589"/>
                </a:lnTo>
                <a:lnTo>
                  <a:pt x="15132" y="8090"/>
                </a:lnTo>
                <a:lnTo>
                  <a:pt x="14921" y="7756"/>
                </a:lnTo>
                <a:lnTo>
                  <a:pt x="14728" y="8256"/>
                </a:lnTo>
                <a:lnTo>
                  <a:pt x="14517" y="8006"/>
                </a:lnTo>
                <a:lnTo>
                  <a:pt x="14271" y="7756"/>
                </a:lnTo>
                <a:lnTo>
                  <a:pt x="14131" y="7339"/>
                </a:lnTo>
                <a:lnTo>
                  <a:pt x="13797" y="5754"/>
                </a:lnTo>
                <a:lnTo>
                  <a:pt x="13428" y="4337"/>
                </a:lnTo>
                <a:lnTo>
                  <a:pt x="13094" y="3336"/>
                </a:lnTo>
                <a:lnTo>
                  <a:pt x="12777" y="2502"/>
                </a:lnTo>
                <a:lnTo>
                  <a:pt x="12303" y="1418"/>
                </a:lnTo>
                <a:lnTo>
                  <a:pt x="11811" y="667"/>
                </a:lnTo>
                <a:lnTo>
                  <a:pt x="11318" y="167"/>
                </a:lnTo>
                <a:lnTo>
                  <a:pt x="10844" y="0"/>
                </a:lnTo>
                <a:lnTo>
                  <a:pt x="10387" y="167"/>
                </a:lnTo>
                <a:lnTo>
                  <a:pt x="9842" y="667"/>
                </a:lnTo>
                <a:lnTo>
                  <a:pt x="9280" y="1418"/>
                </a:lnTo>
                <a:lnTo>
                  <a:pt x="8788" y="2419"/>
                </a:lnTo>
                <a:lnTo>
                  <a:pt x="8331" y="3753"/>
                </a:lnTo>
                <a:lnTo>
                  <a:pt x="7944" y="5254"/>
                </a:lnTo>
                <a:lnTo>
                  <a:pt x="7487" y="7256"/>
                </a:lnTo>
                <a:lnTo>
                  <a:pt x="7013" y="7923"/>
                </a:lnTo>
                <a:lnTo>
                  <a:pt x="6608" y="8256"/>
                </a:lnTo>
                <a:lnTo>
                  <a:pt x="6186" y="8423"/>
                </a:lnTo>
                <a:lnTo>
                  <a:pt x="5765" y="8090"/>
                </a:lnTo>
                <a:lnTo>
                  <a:pt x="5431" y="8090"/>
                </a:lnTo>
                <a:lnTo>
                  <a:pt x="4376" y="8090"/>
                </a:lnTo>
                <a:lnTo>
                  <a:pt x="4060" y="8006"/>
                </a:lnTo>
                <a:lnTo>
                  <a:pt x="3164" y="8256"/>
                </a:lnTo>
                <a:lnTo>
                  <a:pt x="2601" y="8090"/>
                </a:lnTo>
                <a:lnTo>
                  <a:pt x="1916" y="7756"/>
                </a:lnTo>
                <a:lnTo>
                  <a:pt x="1072" y="7923"/>
                </a:lnTo>
                <a:lnTo>
                  <a:pt x="562" y="7923"/>
                </a:lnTo>
                <a:lnTo>
                  <a:pt x="334" y="8006"/>
                </a:lnTo>
                <a:lnTo>
                  <a:pt x="176" y="8423"/>
                </a:lnTo>
                <a:lnTo>
                  <a:pt x="35" y="9424"/>
                </a:lnTo>
                <a:lnTo>
                  <a:pt x="0" y="11008"/>
                </a:lnTo>
                <a:lnTo>
                  <a:pt x="0" y="12676"/>
                </a:lnTo>
                <a:lnTo>
                  <a:pt x="0" y="145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191120" y="235080"/>
            <a:ext cx="88920" cy="39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014" y="516"/>
                </a:moveTo>
                <a:lnTo>
                  <a:pt x="6557" y="2151"/>
                </a:lnTo>
                <a:lnTo>
                  <a:pt x="5014" y="2926"/>
                </a:lnTo>
                <a:lnTo>
                  <a:pt x="2314" y="5335"/>
                </a:lnTo>
                <a:lnTo>
                  <a:pt x="386" y="7401"/>
                </a:lnTo>
                <a:lnTo>
                  <a:pt x="0" y="9294"/>
                </a:lnTo>
                <a:lnTo>
                  <a:pt x="1929" y="11618"/>
                </a:lnTo>
                <a:lnTo>
                  <a:pt x="3086" y="13769"/>
                </a:lnTo>
                <a:lnTo>
                  <a:pt x="5014" y="15834"/>
                </a:lnTo>
                <a:lnTo>
                  <a:pt x="10414" y="17211"/>
                </a:lnTo>
                <a:lnTo>
                  <a:pt x="12343" y="18674"/>
                </a:lnTo>
                <a:lnTo>
                  <a:pt x="17357" y="20137"/>
                </a:lnTo>
                <a:lnTo>
                  <a:pt x="21600" y="21600"/>
                </a:lnTo>
                <a:lnTo>
                  <a:pt x="19671" y="20223"/>
                </a:lnTo>
                <a:lnTo>
                  <a:pt x="15429" y="18588"/>
                </a:lnTo>
                <a:lnTo>
                  <a:pt x="16586" y="16867"/>
                </a:lnTo>
                <a:lnTo>
                  <a:pt x="10800" y="14629"/>
                </a:lnTo>
                <a:lnTo>
                  <a:pt x="5786" y="12048"/>
                </a:lnTo>
                <a:lnTo>
                  <a:pt x="4629" y="8089"/>
                </a:lnTo>
                <a:lnTo>
                  <a:pt x="6557" y="5508"/>
                </a:lnTo>
                <a:lnTo>
                  <a:pt x="9643" y="2926"/>
                </a:lnTo>
                <a:lnTo>
                  <a:pt x="10414" y="1033"/>
                </a:lnTo>
                <a:lnTo>
                  <a:pt x="5786" y="0"/>
                </a:lnTo>
                <a:lnTo>
                  <a:pt x="5014" y="5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3360" y="154080"/>
            <a:ext cx="3433680" cy="519120"/>
            <a:chOff x="63360" y="154080"/>
            <a:chExt cx="3433680" cy="519120"/>
          </a:xfrm>
        </p:grpSpPr>
        <p:sp>
          <p:nvSpPr>
            <p:cNvPr id="535" name=""/>
            <p:cNvSpPr/>
            <p:nvPr/>
          </p:nvSpPr>
          <p:spPr>
            <a:xfrm>
              <a:off x="63360" y="154080"/>
              <a:ext cx="3433680" cy="42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90" y="244"/>
                  </a:moveTo>
                  <a:lnTo>
                    <a:pt x="459" y="0"/>
                  </a:lnTo>
                  <a:lnTo>
                    <a:pt x="20931" y="0"/>
                  </a:lnTo>
                  <a:lnTo>
                    <a:pt x="21171" y="162"/>
                  </a:lnTo>
                  <a:lnTo>
                    <a:pt x="21340" y="731"/>
                  </a:lnTo>
                  <a:lnTo>
                    <a:pt x="21490" y="2111"/>
                  </a:lnTo>
                  <a:lnTo>
                    <a:pt x="21570" y="3735"/>
                  </a:lnTo>
                  <a:lnTo>
                    <a:pt x="21600" y="5603"/>
                  </a:lnTo>
                  <a:lnTo>
                    <a:pt x="21600" y="21600"/>
                  </a:lnTo>
                  <a:lnTo>
                    <a:pt x="809" y="21600"/>
                  </a:lnTo>
                  <a:lnTo>
                    <a:pt x="0" y="21600"/>
                  </a:lnTo>
                  <a:lnTo>
                    <a:pt x="0" y="6659"/>
                  </a:lnTo>
                  <a:lnTo>
                    <a:pt x="10" y="4466"/>
                  </a:lnTo>
                  <a:lnTo>
                    <a:pt x="90" y="2355"/>
                  </a:lnTo>
                  <a:lnTo>
                    <a:pt x="160" y="1218"/>
                  </a:lnTo>
                  <a:lnTo>
                    <a:pt x="290" y="24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360" y="425520"/>
              <a:ext cx="3433680" cy="18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49" y="6632"/>
                  </a:moveTo>
                  <a:lnTo>
                    <a:pt x="1049" y="7389"/>
                  </a:lnTo>
                  <a:lnTo>
                    <a:pt x="1378" y="6632"/>
                  </a:lnTo>
                  <a:lnTo>
                    <a:pt x="1698" y="7389"/>
                  </a:lnTo>
                  <a:lnTo>
                    <a:pt x="1947" y="9474"/>
                  </a:lnTo>
                  <a:lnTo>
                    <a:pt x="2207" y="10989"/>
                  </a:lnTo>
                  <a:lnTo>
                    <a:pt x="2656" y="9663"/>
                  </a:lnTo>
                  <a:lnTo>
                    <a:pt x="3046" y="8905"/>
                  </a:lnTo>
                  <a:lnTo>
                    <a:pt x="3595" y="8905"/>
                  </a:lnTo>
                  <a:lnTo>
                    <a:pt x="3994" y="7768"/>
                  </a:lnTo>
                  <a:lnTo>
                    <a:pt x="4344" y="8905"/>
                  </a:lnTo>
                  <a:lnTo>
                    <a:pt x="4654" y="10042"/>
                  </a:lnTo>
                  <a:lnTo>
                    <a:pt x="4933" y="10421"/>
                  </a:lnTo>
                  <a:lnTo>
                    <a:pt x="5373" y="8905"/>
                  </a:lnTo>
                  <a:lnTo>
                    <a:pt x="5852" y="8905"/>
                  </a:lnTo>
                  <a:lnTo>
                    <a:pt x="6531" y="9474"/>
                  </a:lnTo>
                  <a:lnTo>
                    <a:pt x="6821" y="11558"/>
                  </a:lnTo>
                  <a:lnTo>
                    <a:pt x="7270" y="10989"/>
                  </a:lnTo>
                  <a:lnTo>
                    <a:pt x="7719" y="7768"/>
                  </a:lnTo>
                  <a:lnTo>
                    <a:pt x="8139" y="6632"/>
                  </a:lnTo>
                  <a:lnTo>
                    <a:pt x="8428" y="7768"/>
                  </a:lnTo>
                  <a:lnTo>
                    <a:pt x="8788" y="10611"/>
                  </a:lnTo>
                  <a:lnTo>
                    <a:pt x="9197" y="11747"/>
                  </a:lnTo>
                  <a:lnTo>
                    <a:pt x="9667" y="9853"/>
                  </a:lnTo>
                  <a:lnTo>
                    <a:pt x="9876" y="9284"/>
                  </a:lnTo>
                  <a:lnTo>
                    <a:pt x="10116" y="10611"/>
                  </a:lnTo>
                  <a:lnTo>
                    <a:pt x="10306" y="8905"/>
                  </a:lnTo>
                  <a:lnTo>
                    <a:pt x="10515" y="6632"/>
                  </a:lnTo>
                  <a:lnTo>
                    <a:pt x="10765" y="4547"/>
                  </a:lnTo>
                  <a:lnTo>
                    <a:pt x="11035" y="3979"/>
                  </a:lnTo>
                  <a:lnTo>
                    <a:pt x="11344" y="4547"/>
                  </a:lnTo>
                  <a:lnTo>
                    <a:pt x="11654" y="3600"/>
                  </a:lnTo>
                  <a:lnTo>
                    <a:pt x="11963" y="2463"/>
                  </a:lnTo>
                  <a:lnTo>
                    <a:pt x="12163" y="2463"/>
                  </a:lnTo>
                  <a:lnTo>
                    <a:pt x="12353" y="2842"/>
                  </a:lnTo>
                  <a:lnTo>
                    <a:pt x="12632" y="5495"/>
                  </a:lnTo>
                  <a:lnTo>
                    <a:pt x="12912" y="5116"/>
                  </a:lnTo>
                  <a:lnTo>
                    <a:pt x="13142" y="7768"/>
                  </a:lnTo>
                  <a:lnTo>
                    <a:pt x="13591" y="7768"/>
                  </a:lnTo>
                  <a:lnTo>
                    <a:pt x="13971" y="6253"/>
                  </a:lnTo>
                  <a:lnTo>
                    <a:pt x="14150" y="8337"/>
                  </a:lnTo>
                  <a:lnTo>
                    <a:pt x="14340" y="10421"/>
                  </a:lnTo>
                  <a:lnTo>
                    <a:pt x="14600" y="9853"/>
                  </a:lnTo>
                  <a:lnTo>
                    <a:pt x="14909" y="10989"/>
                  </a:lnTo>
                  <a:lnTo>
                    <a:pt x="15239" y="9853"/>
                  </a:lnTo>
                  <a:lnTo>
                    <a:pt x="15868" y="10989"/>
                  </a:lnTo>
                  <a:lnTo>
                    <a:pt x="16138" y="12126"/>
                  </a:lnTo>
                  <a:lnTo>
                    <a:pt x="16447" y="9284"/>
                  </a:lnTo>
                  <a:lnTo>
                    <a:pt x="16647" y="9095"/>
                  </a:lnTo>
                  <a:lnTo>
                    <a:pt x="16887" y="10042"/>
                  </a:lnTo>
                  <a:lnTo>
                    <a:pt x="17116" y="9663"/>
                  </a:lnTo>
                  <a:lnTo>
                    <a:pt x="17406" y="6632"/>
                  </a:lnTo>
                  <a:lnTo>
                    <a:pt x="17905" y="5874"/>
                  </a:lnTo>
                  <a:lnTo>
                    <a:pt x="18145" y="6253"/>
                  </a:lnTo>
                  <a:lnTo>
                    <a:pt x="18394" y="6253"/>
                  </a:lnTo>
                  <a:lnTo>
                    <a:pt x="18754" y="2463"/>
                  </a:lnTo>
                  <a:lnTo>
                    <a:pt x="18964" y="1137"/>
                  </a:lnTo>
                  <a:lnTo>
                    <a:pt x="19233" y="1705"/>
                  </a:lnTo>
                  <a:lnTo>
                    <a:pt x="19543" y="5495"/>
                  </a:lnTo>
                  <a:lnTo>
                    <a:pt x="19852" y="3221"/>
                  </a:lnTo>
                  <a:lnTo>
                    <a:pt x="20142" y="0"/>
                  </a:lnTo>
                  <a:lnTo>
                    <a:pt x="20392" y="189"/>
                  </a:lnTo>
                  <a:lnTo>
                    <a:pt x="20681" y="6632"/>
                  </a:lnTo>
                  <a:lnTo>
                    <a:pt x="20901" y="5495"/>
                  </a:lnTo>
                  <a:lnTo>
                    <a:pt x="21221" y="2842"/>
                  </a:lnTo>
                  <a:lnTo>
                    <a:pt x="21470" y="2653"/>
                  </a:lnTo>
                  <a:lnTo>
                    <a:pt x="21600" y="4926"/>
                  </a:lnTo>
                  <a:lnTo>
                    <a:pt x="21600" y="21600"/>
                  </a:lnTo>
                  <a:lnTo>
                    <a:pt x="9077" y="16863"/>
                  </a:lnTo>
                  <a:lnTo>
                    <a:pt x="8918" y="17432"/>
                  </a:lnTo>
                  <a:lnTo>
                    <a:pt x="0" y="15537"/>
                  </a:lnTo>
                  <a:lnTo>
                    <a:pt x="0" y="3411"/>
                  </a:lnTo>
                  <a:lnTo>
                    <a:pt x="130" y="5116"/>
                  </a:lnTo>
                  <a:lnTo>
                    <a:pt x="320" y="5874"/>
                  </a:lnTo>
                  <a:lnTo>
                    <a:pt x="559" y="6063"/>
                  </a:lnTo>
                  <a:lnTo>
                    <a:pt x="749" y="6632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60" y="487440"/>
              <a:ext cx="3433680" cy="18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90" y="21046"/>
                  </a:moveTo>
                  <a:lnTo>
                    <a:pt x="459" y="21415"/>
                  </a:lnTo>
                  <a:lnTo>
                    <a:pt x="659" y="21600"/>
                  </a:lnTo>
                  <a:lnTo>
                    <a:pt x="20931" y="21600"/>
                  </a:lnTo>
                  <a:lnTo>
                    <a:pt x="21171" y="21231"/>
                  </a:lnTo>
                  <a:lnTo>
                    <a:pt x="21340" y="20862"/>
                  </a:lnTo>
                  <a:lnTo>
                    <a:pt x="21490" y="19569"/>
                  </a:lnTo>
                  <a:lnTo>
                    <a:pt x="21570" y="18092"/>
                  </a:lnTo>
                  <a:lnTo>
                    <a:pt x="21600" y="16615"/>
                  </a:lnTo>
                  <a:lnTo>
                    <a:pt x="21600" y="2400"/>
                  </a:lnTo>
                  <a:lnTo>
                    <a:pt x="21410" y="0"/>
                  </a:lnTo>
                  <a:lnTo>
                    <a:pt x="21310" y="738"/>
                  </a:lnTo>
                  <a:lnTo>
                    <a:pt x="21221" y="3138"/>
                  </a:lnTo>
                  <a:lnTo>
                    <a:pt x="21151" y="5908"/>
                  </a:lnTo>
                  <a:lnTo>
                    <a:pt x="21061" y="5723"/>
                  </a:lnTo>
                  <a:lnTo>
                    <a:pt x="20941" y="5354"/>
                  </a:lnTo>
                  <a:lnTo>
                    <a:pt x="20681" y="4062"/>
                  </a:lnTo>
                  <a:lnTo>
                    <a:pt x="20512" y="2954"/>
                  </a:lnTo>
                  <a:lnTo>
                    <a:pt x="20242" y="2400"/>
                  </a:lnTo>
                  <a:lnTo>
                    <a:pt x="19952" y="3692"/>
                  </a:lnTo>
                  <a:lnTo>
                    <a:pt x="19673" y="5723"/>
                  </a:lnTo>
                  <a:lnTo>
                    <a:pt x="19483" y="4246"/>
                  </a:lnTo>
                  <a:lnTo>
                    <a:pt x="19313" y="4062"/>
                  </a:lnTo>
                  <a:lnTo>
                    <a:pt x="19074" y="2954"/>
                  </a:lnTo>
                  <a:lnTo>
                    <a:pt x="18824" y="3323"/>
                  </a:lnTo>
                  <a:lnTo>
                    <a:pt x="18654" y="4615"/>
                  </a:lnTo>
                  <a:lnTo>
                    <a:pt x="18584" y="6462"/>
                  </a:lnTo>
                  <a:lnTo>
                    <a:pt x="18384" y="5723"/>
                  </a:lnTo>
                  <a:lnTo>
                    <a:pt x="18105" y="5723"/>
                  </a:lnTo>
                  <a:lnTo>
                    <a:pt x="17735" y="4800"/>
                  </a:lnTo>
                  <a:lnTo>
                    <a:pt x="17416" y="6462"/>
                  </a:lnTo>
                  <a:lnTo>
                    <a:pt x="17136" y="4062"/>
                  </a:lnTo>
                  <a:lnTo>
                    <a:pt x="16767" y="5723"/>
                  </a:lnTo>
                  <a:lnTo>
                    <a:pt x="16417" y="9415"/>
                  </a:lnTo>
                  <a:lnTo>
                    <a:pt x="16118" y="8123"/>
                  </a:lnTo>
                  <a:lnTo>
                    <a:pt x="15868" y="6646"/>
                  </a:lnTo>
                  <a:lnTo>
                    <a:pt x="15578" y="5908"/>
                  </a:lnTo>
                  <a:lnTo>
                    <a:pt x="15219" y="6462"/>
                  </a:lnTo>
                  <a:lnTo>
                    <a:pt x="14650" y="7569"/>
                  </a:lnTo>
                  <a:lnTo>
                    <a:pt x="14150" y="6277"/>
                  </a:lnTo>
                  <a:lnTo>
                    <a:pt x="13931" y="7015"/>
                  </a:lnTo>
                  <a:lnTo>
                    <a:pt x="13651" y="5723"/>
                  </a:lnTo>
                  <a:lnTo>
                    <a:pt x="13461" y="4246"/>
                  </a:lnTo>
                  <a:lnTo>
                    <a:pt x="13252" y="4062"/>
                  </a:lnTo>
                  <a:lnTo>
                    <a:pt x="12852" y="4800"/>
                  </a:lnTo>
                  <a:lnTo>
                    <a:pt x="12353" y="7569"/>
                  </a:lnTo>
                  <a:lnTo>
                    <a:pt x="11923" y="5169"/>
                  </a:lnTo>
                  <a:lnTo>
                    <a:pt x="11574" y="5723"/>
                  </a:lnTo>
                  <a:lnTo>
                    <a:pt x="11234" y="8862"/>
                  </a:lnTo>
                  <a:lnTo>
                    <a:pt x="10635" y="6646"/>
                  </a:lnTo>
                  <a:lnTo>
                    <a:pt x="10176" y="7754"/>
                  </a:lnTo>
                  <a:lnTo>
                    <a:pt x="9866" y="6646"/>
                  </a:lnTo>
                  <a:lnTo>
                    <a:pt x="9417" y="7200"/>
                  </a:lnTo>
                  <a:lnTo>
                    <a:pt x="8958" y="8862"/>
                  </a:lnTo>
                  <a:lnTo>
                    <a:pt x="8648" y="8308"/>
                  </a:lnTo>
                  <a:lnTo>
                    <a:pt x="7999" y="7754"/>
                  </a:lnTo>
                  <a:lnTo>
                    <a:pt x="7589" y="8862"/>
                  </a:lnTo>
                  <a:lnTo>
                    <a:pt x="6910" y="8123"/>
                  </a:lnTo>
                  <a:lnTo>
                    <a:pt x="6351" y="7200"/>
                  </a:lnTo>
                  <a:lnTo>
                    <a:pt x="5742" y="5723"/>
                  </a:lnTo>
                  <a:lnTo>
                    <a:pt x="5173" y="7200"/>
                  </a:lnTo>
                  <a:lnTo>
                    <a:pt x="4534" y="4062"/>
                  </a:lnTo>
                  <a:lnTo>
                    <a:pt x="4034" y="4062"/>
                  </a:lnTo>
                  <a:lnTo>
                    <a:pt x="3705" y="6092"/>
                  </a:lnTo>
                  <a:lnTo>
                    <a:pt x="3485" y="4431"/>
                  </a:lnTo>
                  <a:lnTo>
                    <a:pt x="3216" y="5354"/>
                  </a:lnTo>
                  <a:lnTo>
                    <a:pt x="2866" y="5723"/>
                  </a:lnTo>
                  <a:lnTo>
                    <a:pt x="2517" y="6277"/>
                  </a:lnTo>
                  <a:lnTo>
                    <a:pt x="2107" y="7569"/>
                  </a:lnTo>
                  <a:lnTo>
                    <a:pt x="1758" y="6092"/>
                  </a:lnTo>
                  <a:lnTo>
                    <a:pt x="1428" y="6831"/>
                  </a:lnTo>
                  <a:lnTo>
                    <a:pt x="989" y="7385"/>
                  </a:lnTo>
                  <a:lnTo>
                    <a:pt x="709" y="6831"/>
                  </a:lnTo>
                  <a:lnTo>
                    <a:pt x="200" y="6462"/>
                  </a:lnTo>
                  <a:lnTo>
                    <a:pt x="0" y="8123"/>
                  </a:lnTo>
                  <a:lnTo>
                    <a:pt x="20" y="12738"/>
                  </a:lnTo>
                  <a:lnTo>
                    <a:pt x="50" y="16800"/>
                  </a:lnTo>
                  <a:lnTo>
                    <a:pt x="160" y="20308"/>
                  </a:lnTo>
                  <a:lnTo>
                    <a:pt x="290" y="21046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2440" y="165240"/>
              <a:ext cx="3379680" cy="24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516"/>
                  </a:moveTo>
                  <a:lnTo>
                    <a:pt x="0" y="16342"/>
                  </a:lnTo>
                  <a:lnTo>
                    <a:pt x="0" y="21600"/>
                  </a:lnTo>
                  <a:lnTo>
                    <a:pt x="51" y="17337"/>
                  </a:lnTo>
                  <a:lnTo>
                    <a:pt x="71" y="13926"/>
                  </a:lnTo>
                  <a:lnTo>
                    <a:pt x="91" y="7816"/>
                  </a:lnTo>
                  <a:lnTo>
                    <a:pt x="152" y="4832"/>
                  </a:lnTo>
                  <a:lnTo>
                    <a:pt x="284" y="3837"/>
                  </a:lnTo>
                  <a:lnTo>
                    <a:pt x="609" y="3126"/>
                  </a:lnTo>
                  <a:lnTo>
                    <a:pt x="1025" y="3411"/>
                  </a:lnTo>
                  <a:lnTo>
                    <a:pt x="2029" y="3411"/>
                  </a:lnTo>
                  <a:lnTo>
                    <a:pt x="2465" y="3979"/>
                  </a:lnTo>
                  <a:lnTo>
                    <a:pt x="3105" y="3411"/>
                  </a:lnTo>
                  <a:lnTo>
                    <a:pt x="3835" y="3695"/>
                  </a:lnTo>
                  <a:lnTo>
                    <a:pt x="4373" y="3553"/>
                  </a:lnTo>
                  <a:lnTo>
                    <a:pt x="5448" y="3979"/>
                  </a:lnTo>
                  <a:lnTo>
                    <a:pt x="5824" y="3837"/>
                  </a:lnTo>
                  <a:lnTo>
                    <a:pt x="6544" y="3411"/>
                  </a:lnTo>
                  <a:lnTo>
                    <a:pt x="6787" y="4121"/>
                  </a:lnTo>
                  <a:lnTo>
                    <a:pt x="7457" y="3411"/>
                  </a:lnTo>
                  <a:lnTo>
                    <a:pt x="8482" y="3837"/>
                  </a:lnTo>
                  <a:lnTo>
                    <a:pt x="8827" y="4405"/>
                  </a:lnTo>
                  <a:lnTo>
                    <a:pt x="9364" y="3979"/>
                  </a:lnTo>
                  <a:lnTo>
                    <a:pt x="9821" y="4689"/>
                  </a:lnTo>
                  <a:lnTo>
                    <a:pt x="10206" y="4689"/>
                  </a:lnTo>
                  <a:lnTo>
                    <a:pt x="10957" y="3979"/>
                  </a:lnTo>
                  <a:lnTo>
                    <a:pt x="11667" y="4405"/>
                  </a:lnTo>
                  <a:lnTo>
                    <a:pt x="12296" y="5400"/>
                  </a:lnTo>
                  <a:lnTo>
                    <a:pt x="12499" y="5542"/>
                  </a:lnTo>
                  <a:lnTo>
                    <a:pt x="13352" y="4974"/>
                  </a:lnTo>
                  <a:lnTo>
                    <a:pt x="14153" y="4547"/>
                  </a:lnTo>
                  <a:lnTo>
                    <a:pt x="14346" y="4263"/>
                  </a:lnTo>
                  <a:lnTo>
                    <a:pt x="14650" y="4405"/>
                  </a:lnTo>
                  <a:lnTo>
                    <a:pt x="15482" y="4832"/>
                  </a:lnTo>
                  <a:lnTo>
                    <a:pt x="16121" y="4121"/>
                  </a:lnTo>
                  <a:lnTo>
                    <a:pt x="16446" y="4263"/>
                  </a:lnTo>
                  <a:lnTo>
                    <a:pt x="16963" y="4405"/>
                  </a:lnTo>
                  <a:lnTo>
                    <a:pt x="17390" y="3837"/>
                  </a:lnTo>
                  <a:lnTo>
                    <a:pt x="17684" y="3411"/>
                  </a:lnTo>
                  <a:lnTo>
                    <a:pt x="18069" y="4263"/>
                  </a:lnTo>
                  <a:lnTo>
                    <a:pt x="18881" y="4547"/>
                  </a:lnTo>
                  <a:lnTo>
                    <a:pt x="19419" y="3411"/>
                  </a:lnTo>
                  <a:lnTo>
                    <a:pt x="20200" y="4405"/>
                  </a:lnTo>
                  <a:lnTo>
                    <a:pt x="20758" y="4405"/>
                  </a:lnTo>
                  <a:lnTo>
                    <a:pt x="21052" y="4405"/>
                  </a:lnTo>
                  <a:lnTo>
                    <a:pt x="21245" y="6253"/>
                  </a:lnTo>
                  <a:lnTo>
                    <a:pt x="21367" y="7247"/>
                  </a:lnTo>
                  <a:lnTo>
                    <a:pt x="21458" y="9095"/>
                  </a:lnTo>
                  <a:lnTo>
                    <a:pt x="21529" y="12363"/>
                  </a:lnTo>
                  <a:lnTo>
                    <a:pt x="21600" y="16626"/>
                  </a:lnTo>
                  <a:lnTo>
                    <a:pt x="21600" y="7816"/>
                  </a:lnTo>
                  <a:lnTo>
                    <a:pt x="21600" y="5542"/>
                  </a:lnTo>
                  <a:lnTo>
                    <a:pt x="21559" y="3979"/>
                  </a:lnTo>
                  <a:lnTo>
                    <a:pt x="21509" y="2132"/>
                  </a:lnTo>
                  <a:lnTo>
                    <a:pt x="21204" y="995"/>
                  </a:lnTo>
                  <a:lnTo>
                    <a:pt x="20027" y="711"/>
                  </a:lnTo>
                  <a:lnTo>
                    <a:pt x="19753" y="142"/>
                  </a:lnTo>
                  <a:lnTo>
                    <a:pt x="18830" y="142"/>
                  </a:lnTo>
                  <a:lnTo>
                    <a:pt x="18556" y="426"/>
                  </a:lnTo>
                  <a:lnTo>
                    <a:pt x="17998" y="426"/>
                  </a:lnTo>
                  <a:lnTo>
                    <a:pt x="17582" y="284"/>
                  </a:lnTo>
                  <a:lnTo>
                    <a:pt x="16821" y="995"/>
                  </a:lnTo>
                  <a:lnTo>
                    <a:pt x="15239" y="426"/>
                  </a:lnTo>
                  <a:lnTo>
                    <a:pt x="14742" y="711"/>
                  </a:lnTo>
                  <a:lnTo>
                    <a:pt x="13869" y="1279"/>
                  </a:lnTo>
                  <a:lnTo>
                    <a:pt x="13311" y="853"/>
                  </a:lnTo>
                  <a:lnTo>
                    <a:pt x="12753" y="711"/>
                  </a:lnTo>
                  <a:lnTo>
                    <a:pt x="12296" y="711"/>
                  </a:lnTo>
                  <a:lnTo>
                    <a:pt x="11809" y="1137"/>
                  </a:lnTo>
                  <a:lnTo>
                    <a:pt x="11515" y="568"/>
                  </a:lnTo>
                  <a:lnTo>
                    <a:pt x="10460" y="711"/>
                  </a:lnTo>
                  <a:lnTo>
                    <a:pt x="10146" y="711"/>
                  </a:lnTo>
                  <a:lnTo>
                    <a:pt x="9588" y="568"/>
                  </a:lnTo>
                  <a:lnTo>
                    <a:pt x="8492" y="853"/>
                  </a:lnTo>
                  <a:lnTo>
                    <a:pt x="7518" y="568"/>
                  </a:lnTo>
                  <a:lnTo>
                    <a:pt x="6615" y="568"/>
                  </a:lnTo>
                  <a:lnTo>
                    <a:pt x="6189" y="711"/>
                  </a:lnTo>
                  <a:lnTo>
                    <a:pt x="5773" y="284"/>
                  </a:lnTo>
                  <a:lnTo>
                    <a:pt x="5428" y="284"/>
                  </a:lnTo>
                  <a:lnTo>
                    <a:pt x="4373" y="284"/>
                  </a:lnTo>
                  <a:lnTo>
                    <a:pt x="3165" y="568"/>
                  </a:lnTo>
                  <a:lnTo>
                    <a:pt x="2597" y="284"/>
                  </a:lnTo>
                  <a:lnTo>
                    <a:pt x="1928" y="568"/>
                  </a:lnTo>
                  <a:lnTo>
                    <a:pt x="1086" y="0"/>
                  </a:lnTo>
                  <a:lnTo>
                    <a:pt x="568" y="0"/>
                  </a:lnTo>
                  <a:lnTo>
                    <a:pt x="345" y="142"/>
                  </a:lnTo>
                  <a:lnTo>
                    <a:pt x="193" y="711"/>
                  </a:lnTo>
                  <a:lnTo>
                    <a:pt x="51" y="2416"/>
                  </a:lnTo>
                  <a:lnTo>
                    <a:pt x="10" y="4974"/>
                  </a:lnTo>
                  <a:lnTo>
                    <a:pt x="0" y="7532"/>
                  </a:lnTo>
                  <a:lnTo>
                    <a:pt x="0" y="105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0360" y="550800"/>
              <a:ext cx="3376440" cy="9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977"/>
                  </a:moveTo>
                  <a:lnTo>
                    <a:pt x="0" y="4957"/>
                  </a:lnTo>
                  <a:lnTo>
                    <a:pt x="0" y="0"/>
                  </a:lnTo>
                  <a:lnTo>
                    <a:pt x="61" y="4249"/>
                  </a:lnTo>
                  <a:lnTo>
                    <a:pt x="71" y="7436"/>
                  </a:lnTo>
                  <a:lnTo>
                    <a:pt x="81" y="13810"/>
                  </a:lnTo>
                  <a:lnTo>
                    <a:pt x="152" y="16643"/>
                  </a:lnTo>
                  <a:lnTo>
                    <a:pt x="274" y="17351"/>
                  </a:lnTo>
                  <a:lnTo>
                    <a:pt x="406" y="16643"/>
                  </a:lnTo>
                  <a:lnTo>
                    <a:pt x="599" y="16643"/>
                  </a:lnTo>
                  <a:lnTo>
                    <a:pt x="924" y="16289"/>
                  </a:lnTo>
                  <a:lnTo>
                    <a:pt x="1117" y="16643"/>
                  </a:lnTo>
                  <a:lnTo>
                    <a:pt x="1290" y="16643"/>
                  </a:lnTo>
                  <a:lnTo>
                    <a:pt x="1645" y="16997"/>
                  </a:lnTo>
                  <a:lnTo>
                    <a:pt x="1777" y="16997"/>
                  </a:lnTo>
                  <a:lnTo>
                    <a:pt x="1950" y="17351"/>
                  </a:lnTo>
                  <a:lnTo>
                    <a:pt x="2224" y="16643"/>
                  </a:lnTo>
                  <a:lnTo>
                    <a:pt x="2518" y="16289"/>
                  </a:lnTo>
                  <a:lnTo>
                    <a:pt x="2884" y="15934"/>
                  </a:lnTo>
                  <a:lnTo>
                    <a:pt x="3321" y="17351"/>
                  </a:lnTo>
                  <a:lnTo>
                    <a:pt x="3889" y="17705"/>
                  </a:lnTo>
                  <a:lnTo>
                    <a:pt x="4194" y="17351"/>
                  </a:lnTo>
                  <a:lnTo>
                    <a:pt x="4377" y="17705"/>
                  </a:lnTo>
                  <a:lnTo>
                    <a:pt x="4864" y="17705"/>
                  </a:lnTo>
                  <a:lnTo>
                    <a:pt x="5037" y="16643"/>
                  </a:lnTo>
                  <a:lnTo>
                    <a:pt x="5250" y="17705"/>
                  </a:lnTo>
                  <a:lnTo>
                    <a:pt x="5829" y="17351"/>
                  </a:lnTo>
                  <a:lnTo>
                    <a:pt x="6550" y="18059"/>
                  </a:lnTo>
                  <a:lnTo>
                    <a:pt x="6794" y="17351"/>
                  </a:lnTo>
                  <a:lnTo>
                    <a:pt x="7362" y="16643"/>
                  </a:lnTo>
                  <a:lnTo>
                    <a:pt x="7738" y="16289"/>
                  </a:lnTo>
                  <a:lnTo>
                    <a:pt x="8175" y="16997"/>
                  </a:lnTo>
                  <a:lnTo>
                    <a:pt x="8480" y="17351"/>
                  </a:lnTo>
                  <a:lnTo>
                    <a:pt x="8825" y="16997"/>
                  </a:lnTo>
                  <a:lnTo>
                    <a:pt x="9434" y="17705"/>
                  </a:lnTo>
                  <a:lnTo>
                    <a:pt x="9830" y="16643"/>
                  </a:lnTo>
                  <a:lnTo>
                    <a:pt x="10206" y="16643"/>
                  </a:lnTo>
                  <a:lnTo>
                    <a:pt x="10602" y="15580"/>
                  </a:lnTo>
                  <a:lnTo>
                    <a:pt x="11100" y="16643"/>
                  </a:lnTo>
                  <a:lnTo>
                    <a:pt x="11750" y="15934"/>
                  </a:lnTo>
                  <a:lnTo>
                    <a:pt x="12491" y="15934"/>
                  </a:lnTo>
                  <a:lnTo>
                    <a:pt x="13151" y="16643"/>
                  </a:lnTo>
                  <a:lnTo>
                    <a:pt x="13547" y="15226"/>
                  </a:lnTo>
                  <a:lnTo>
                    <a:pt x="13984" y="15580"/>
                  </a:lnTo>
                  <a:lnTo>
                    <a:pt x="14156" y="16643"/>
                  </a:lnTo>
                  <a:lnTo>
                    <a:pt x="14339" y="16997"/>
                  </a:lnTo>
                  <a:lnTo>
                    <a:pt x="14918" y="16643"/>
                  </a:lnTo>
                  <a:lnTo>
                    <a:pt x="15426" y="16997"/>
                  </a:lnTo>
                  <a:lnTo>
                    <a:pt x="16116" y="17351"/>
                  </a:lnTo>
                  <a:lnTo>
                    <a:pt x="16309" y="16997"/>
                  </a:lnTo>
                  <a:lnTo>
                    <a:pt x="16441" y="16997"/>
                  </a:lnTo>
                  <a:lnTo>
                    <a:pt x="16614" y="16289"/>
                  </a:lnTo>
                  <a:lnTo>
                    <a:pt x="16959" y="16997"/>
                  </a:lnTo>
                  <a:lnTo>
                    <a:pt x="17122" y="17351"/>
                  </a:lnTo>
                  <a:lnTo>
                    <a:pt x="17243" y="16643"/>
                  </a:lnTo>
                  <a:lnTo>
                    <a:pt x="17386" y="17351"/>
                  </a:lnTo>
                  <a:lnTo>
                    <a:pt x="17660" y="16643"/>
                  </a:lnTo>
                  <a:lnTo>
                    <a:pt x="18096" y="17351"/>
                  </a:lnTo>
                  <a:lnTo>
                    <a:pt x="18523" y="15934"/>
                  </a:lnTo>
                  <a:lnTo>
                    <a:pt x="18696" y="16643"/>
                  </a:lnTo>
                  <a:lnTo>
                    <a:pt x="18878" y="16643"/>
                  </a:lnTo>
                  <a:lnTo>
                    <a:pt x="19671" y="15934"/>
                  </a:lnTo>
                  <a:lnTo>
                    <a:pt x="20442" y="16643"/>
                  </a:lnTo>
                  <a:lnTo>
                    <a:pt x="21041" y="15934"/>
                  </a:lnTo>
                  <a:lnTo>
                    <a:pt x="21245" y="15226"/>
                  </a:lnTo>
                  <a:lnTo>
                    <a:pt x="21366" y="14164"/>
                  </a:lnTo>
                  <a:lnTo>
                    <a:pt x="21458" y="12039"/>
                  </a:lnTo>
                  <a:lnTo>
                    <a:pt x="21529" y="9207"/>
                  </a:lnTo>
                  <a:lnTo>
                    <a:pt x="21600" y="4603"/>
                  </a:lnTo>
                  <a:lnTo>
                    <a:pt x="21600" y="13810"/>
                  </a:lnTo>
                  <a:lnTo>
                    <a:pt x="21600" y="15934"/>
                  </a:lnTo>
                  <a:lnTo>
                    <a:pt x="21570" y="17351"/>
                  </a:lnTo>
                  <a:lnTo>
                    <a:pt x="21509" y="19121"/>
                  </a:lnTo>
                  <a:lnTo>
                    <a:pt x="21397" y="20538"/>
                  </a:lnTo>
                  <a:lnTo>
                    <a:pt x="20605" y="21600"/>
                  </a:lnTo>
                  <a:lnTo>
                    <a:pt x="20026" y="20538"/>
                  </a:lnTo>
                  <a:lnTo>
                    <a:pt x="19752" y="21246"/>
                  </a:lnTo>
                  <a:lnTo>
                    <a:pt x="18828" y="21246"/>
                  </a:lnTo>
                  <a:lnTo>
                    <a:pt x="18564" y="20892"/>
                  </a:lnTo>
                  <a:lnTo>
                    <a:pt x="18279" y="21600"/>
                  </a:lnTo>
                  <a:lnTo>
                    <a:pt x="17995" y="20892"/>
                  </a:lnTo>
                  <a:lnTo>
                    <a:pt x="17660" y="21600"/>
                  </a:lnTo>
                  <a:lnTo>
                    <a:pt x="16786" y="21246"/>
                  </a:lnTo>
                  <a:lnTo>
                    <a:pt x="16533" y="20184"/>
                  </a:lnTo>
                  <a:lnTo>
                    <a:pt x="15710" y="21246"/>
                  </a:lnTo>
                  <a:lnTo>
                    <a:pt x="15162" y="19830"/>
                  </a:lnTo>
                  <a:lnTo>
                    <a:pt x="14522" y="21246"/>
                  </a:lnTo>
                  <a:lnTo>
                    <a:pt x="14034" y="20538"/>
                  </a:lnTo>
                  <a:lnTo>
                    <a:pt x="13567" y="21246"/>
                  </a:lnTo>
                  <a:lnTo>
                    <a:pt x="13303" y="20538"/>
                  </a:lnTo>
                  <a:lnTo>
                    <a:pt x="13070" y="20538"/>
                  </a:lnTo>
                  <a:lnTo>
                    <a:pt x="12755" y="20538"/>
                  </a:lnTo>
                  <a:lnTo>
                    <a:pt x="12542" y="20184"/>
                  </a:lnTo>
                  <a:lnTo>
                    <a:pt x="12308" y="20892"/>
                  </a:lnTo>
                  <a:lnTo>
                    <a:pt x="12064" y="20184"/>
                  </a:lnTo>
                  <a:lnTo>
                    <a:pt x="11810" y="20184"/>
                  </a:lnTo>
                  <a:lnTo>
                    <a:pt x="11516" y="20892"/>
                  </a:lnTo>
                  <a:lnTo>
                    <a:pt x="11232" y="21246"/>
                  </a:lnTo>
                  <a:lnTo>
                    <a:pt x="10917" y="21246"/>
                  </a:lnTo>
                  <a:lnTo>
                    <a:pt x="10460" y="20892"/>
                  </a:lnTo>
                  <a:lnTo>
                    <a:pt x="10135" y="21246"/>
                  </a:lnTo>
                  <a:lnTo>
                    <a:pt x="9861" y="20892"/>
                  </a:lnTo>
                  <a:lnTo>
                    <a:pt x="9597" y="20892"/>
                  </a:lnTo>
                  <a:lnTo>
                    <a:pt x="8987" y="21600"/>
                  </a:lnTo>
                  <a:lnTo>
                    <a:pt x="8500" y="20538"/>
                  </a:lnTo>
                  <a:lnTo>
                    <a:pt x="7962" y="21600"/>
                  </a:lnTo>
                  <a:lnTo>
                    <a:pt x="7515" y="20892"/>
                  </a:lnTo>
                  <a:lnTo>
                    <a:pt x="7027" y="21600"/>
                  </a:lnTo>
                  <a:lnTo>
                    <a:pt x="6621" y="20892"/>
                  </a:lnTo>
                  <a:lnTo>
                    <a:pt x="6184" y="20538"/>
                  </a:lnTo>
                  <a:lnTo>
                    <a:pt x="5778" y="20892"/>
                  </a:lnTo>
                  <a:lnTo>
                    <a:pt x="5423" y="20892"/>
                  </a:lnTo>
                  <a:lnTo>
                    <a:pt x="4377" y="20892"/>
                  </a:lnTo>
                  <a:lnTo>
                    <a:pt x="4072" y="21246"/>
                  </a:lnTo>
                  <a:lnTo>
                    <a:pt x="3158" y="20892"/>
                  </a:lnTo>
                  <a:lnTo>
                    <a:pt x="2600" y="20892"/>
                  </a:lnTo>
                  <a:lnTo>
                    <a:pt x="1046" y="20538"/>
                  </a:lnTo>
                  <a:lnTo>
                    <a:pt x="193" y="20538"/>
                  </a:lnTo>
                  <a:lnTo>
                    <a:pt x="41" y="19121"/>
                  </a:lnTo>
                  <a:lnTo>
                    <a:pt x="10" y="16289"/>
                  </a:lnTo>
                  <a:lnTo>
                    <a:pt x="0" y="13810"/>
                  </a:lnTo>
                  <a:lnTo>
                    <a:pt x="0" y="10977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646600" y="154080"/>
            <a:ext cx="3433680" cy="550800"/>
            <a:chOff x="5646600" y="154080"/>
            <a:chExt cx="3433680" cy="550800"/>
          </a:xfrm>
        </p:grpSpPr>
        <p:sp>
          <p:nvSpPr>
            <p:cNvPr id="541" name=""/>
            <p:cNvSpPr/>
            <p:nvPr/>
          </p:nvSpPr>
          <p:spPr>
            <a:xfrm>
              <a:off x="5646600" y="154080"/>
              <a:ext cx="3433680" cy="44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90" y="305"/>
                  </a:moveTo>
                  <a:lnTo>
                    <a:pt x="459" y="0"/>
                  </a:lnTo>
                  <a:lnTo>
                    <a:pt x="20931" y="0"/>
                  </a:lnTo>
                  <a:lnTo>
                    <a:pt x="21171" y="229"/>
                  </a:lnTo>
                  <a:lnTo>
                    <a:pt x="21340" y="763"/>
                  </a:lnTo>
                  <a:lnTo>
                    <a:pt x="21490" y="2137"/>
                  </a:lnTo>
                  <a:lnTo>
                    <a:pt x="21570" y="3740"/>
                  </a:lnTo>
                  <a:lnTo>
                    <a:pt x="21600" y="5572"/>
                  </a:lnTo>
                  <a:lnTo>
                    <a:pt x="21600" y="21600"/>
                  </a:lnTo>
                  <a:lnTo>
                    <a:pt x="809" y="21600"/>
                  </a:lnTo>
                  <a:lnTo>
                    <a:pt x="0" y="21600"/>
                  </a:lnTo>
                  <a:lnTo>
                    <a:pt x="0" y="6640"/>
                  </a:lnTo>
                  <a:lnTo>
                    <a:pt x="10" y="4503"/>
                  </a:lnTo>
                  <a:lnTo>
                    <a:pt x="90" y="2366"/>
                  </a:lnTo>
                  <a:lnTo>
                    <a:pt x="160" y="1221"/>
                  </a:lnTo>
                  <a:lnTo>
                    <a:pt x="290" y="305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46600" y="441360"/>
              <a:ext cx="343368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49" y="6728"/>
                  </a:moveTo>
                  <a:lnTo>
                    <a:pt x="1049" y="7436"/>
                  </a:lnTo>
                  <a:lnTo>
                    <a:pt x="1378" y="6728"/>
                  </a:lnTo>
                  <a:lnTo>
                    <a:pt x="1698" y="7436"/>
                  </a:lnTo>
                  <a:lnTo>
                    <a:pt x="1947" y="9384"/>
                  </a:lnTo>
                  <a:lnTo>
                    <a:pt x="2207" y="11154"/>
                  </a:lnTo>
                  <a:lnTo>
                    <a:pt x="2656" y="9561"/>
                  </a:lnTo>
                  <a:lnTo>
                    <a:pt x="3046" y="8852"/>
                  </a:lnTo>
                  <a:lnTo>
                    <a:pt x="3595" y="8852"/>
                  </a:lnTo>
                  <a:lnTo>
                    <a:pt x="3994" y="7790"/>
                  </a:lnTo>
                  <a:lnTo>
                    <a:pt x="4344" y="8852"/>
                  </a:lnTo>
                  <a:lnTo>
                    <a:pt x="4654" y="10092"/>
                  </a:lnTo>
                  <a:lnTo>
                    <a:pt x="4933" y="10446"/>
                  </a:lnTo>
                  <a:lnTo>
                    <a:pt x="5373" y="8852"/>
                  </a:lnTo>
                  <a:lnTo>
                    <a:pt x="5852" y="8852"/>
                  </a:lnTo>
                  <a:lnTo>
                    <a:pt x="6531" y="9561"/>
                  </a:lnTo>
                  <a:lnTo>
                    <a:pt x="6821" y="11508"/>
                  </a:lnTo>
                  <a:lnTo>
                    <a:pt x="7270" y="11154"/>
                  </a:lnTo>
                  <a:lnTo>
                    <a:pt x="7719" y="7790"/>
                  </a:lnTo>
                  <a:lnTo>
                    <a:pt x="8139" y="6728"/>
                  </a:lnTo>
                  <a:lnTo>
                    <a:pt x="8428" y="7790"/>
                  </a:lnTo>
                  <a:lnTo>
                    <a:pt x="8788" y="10623"/>
                  </a:lnTo>
                  <a:lnTo>
                    <a:pt x="9197" y="11685"/>
                  </a:lnTo>
                  <a:lnTo>
                    <a:pt x="9667" y="9915"/>
                  </a:lnTo>
                  <a:lnTo>
                    <a:pt x="9876" y="9207"/>
                  </a:lnTo>
                  <a:lnTo>
                    <a:pt x="10116" y="10623"/>
                  </a:lnTo>
                  <a:lnTo>
                    <a:pt x="10306" y="8852"/>
                  </a:lnTo>
                  <a:lnTo>
                    <a:pt x="10515" y="6728"/>
                  </a:lnTo>
                  <a:lnTo>
                    <a:pt x="10765" y="4603"/>
                  </a:lnTo>
                  <a:lnTo>
                    <a:pt x="11035" y="3895"/>
                  </a:lnTo>
                  <a:lnTo>
                    <a:pt x="11344" y="4603"/>
                  </a:lnTo>
                  <a:lnTo>
                    <a:pt x="11654" y="3718"/>
                  </a:lnTo>
                  <a:lnTo>
                    <a:pt x="11963" y="2479"/>
                  </a:lnTo>
                  <a:lnTo>
                    <a:pt x="12163" y="2479"/>
                  </a:lnTo>
                  <a:lnTo>
                    <a:pt x="12353" y="2833"/>
                  </a:lnTo>
                  <a:lnTo>
                    <a:pt x="12632" y="5666"/>
                  </a:lnTo>
                  <a:lnTo>
                    <a:pt x="12912" y="5134"/>
                  </a:lnTo>
                  <a:lnTo>
                    <a:pt x="13142" y="7790"/>
                  </a:lnTo>
                  <a:lnTo>
                    <a:pt x="13591" y="7790"/>
                  </a:lnTo>
                  <a:lnTo>
                    <a:pt x="13971" y="6197"/>
                  </a:lnTo>
                  <a:lnTo>
                    <a:pt x="14150" y="8321"/>
                  </a:lnTo>
                  <a:lnTo>
                    <a:pt x="14340" y="10446"/>
                  </a:lnTo>
                  <a:lnTo>
                    <a:pt x="14600" y="9915"/>
                  </a:lnTo>
                  <a:lnTo>
                    <a:pt x="14909" y="11154"/>
                  </a:lnTo>
                  <a:lnTo>
                    <a:pt x="15239" y="9915"/>
                  </a:lnTo>
                  <a:lnTo>
                    <a:pt x="15868" y="11154"/>
                  </a:lnTo>
                  <a:lnTo>
                    <a:pt x="16138" y="12216"/>
                  </a:lnTo>
                  <a:lnTo>
                    <a:pt x="16447" y="9207"/>
                  </a:lnTo>
                  <a:lnTo>
                    <a:pt x="16647" y="9030"/>
                  </a:lnTo>
                  <a:lnTo>
                    <a:pt x="16887" y="10092"/>
                  </a:lnTo>
                  <a:lnTo>
                    <a:pt x="17116" y="9561"/>
                  </a:lnTo>
                  <a:lnTo>
                    <a:pt x="17406" y="6728"/>
                  </a:lnTo>
                  <a:lnTo>
                    <a:pt x="17905" y="5843"/>
                  </a:lnTo>
                  <a:lnTo>
                    <a:pt x="18145" y="6197"/>
                  </a:lnTo>
                  <a:lnTo>
                    <a:pt x="18394" y="6197"/>
                  </a:lnTo>
                  <a:lnTo>
                    <a:pt x="18754" y="2479"/>
                  </a:lnTo>
                  <a:lnTo>
                    <a:pt x="18964" y="1062"/>
                  </a:lnTo>
                  <a:lnTo>
                    <a:pt x="19233" y="1770"/>
                  </a:lnTo>
                  <a:lnTo>
                    <a:pt x="19543" y="5666"/>
                  </a:lnTo>
                  <a:lnTo>
                    <a:pt x="19852" y="3187"/>
                  </a:lnTo>
                  <a:lnTo>
                    <a:pt x="20142" y="0"/>
                  </a:lnTo>
                  <a:lnTo>
                    <a:pt x="20392" y="177"/>
                  </a:lnTo>
                  <a:lnTo>
                    <a:pt x="20681" y="6728"/>
                  </a:lnTo>
                  <a:lnTo>
                    <a:pt x="20901" y="5666"/>
                  </a:lnTo>
                  <a:lnTo>
                    <a:pt x="21221" y="2833"/>
                  </a:lnTo>
                  <a:lnTo>
                    <a:pt x="21470" y="2833"/>
                  </a:lnTo>
                  <a:lnTo>
                    <a:pt x="21600" y="4957"/>
                  </a:lnTo>
                  <a:lnTo>
                    <a:pt x="21600" y="21600"/>
                  </a:lnTo>
                  <a:lnTo>
                    <a:pt x="9077" y="16820"/>
                  </a:lnTo>
                  <a:lnTo>
                    <a:pt x="8918" y="17528"/>
                  </a:lnTo>
                  <a:lnTo>
                    <a:pt x="0" y="15580"/>
                  </a:lnTo>
                  <a:lnTo>
                    <a:pt x="0" y="3364"/>
                  </a:lnTo>
                  <a:lnTo>
                    <a:pt x="130" y="5134"/>
                  </a:lnTo>
                  <a:lnTo>
                    <a:pt x="320" y="5843"/>
                  </a:lnTo>
                  <a:lnTo>
                    <a:pt x="559" y="6020"/>
                  </a:lnTo>
                  <a:lnTo>
                    <a:pt x="749" y="672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646600" y="507960"/>
              <a:ext cx="3433680" cy="19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90" y="20903"/>
                  </a:moveTo>
                  <a:lnTo>
                    <a:pt x="459" y="21426"/>
                  </a:lnTo>
                  <a:lnTo>
                    <a:pt x="659" y="21600"/>
                  </a:lnTo>
                  <a:lnTo>
                    <a:pt x="20931" y="21600"/>
                  </a:lnTo>
                  <a:lnTo>
                    <a:pt x="21171" y="21252"/>
                  </a:lnTo>
                  <a:lnTo>
                    <a:pt x="21340" y="20903"/>
                  </a:lnTo>
                  <a:lnTo>
                    <a:pt x="21490" y="19684"/>
                  </a:lnTo>
                  <a:lnTo>
                    <a:pt x="21570" y="18116"/>
                  </a:lnTo>
                  <a:lnTo>
                    <a:pt x="21600" y="16548"/>
                  </a:lnTo>
                  <a:lnTo>
                    <a:pt x="21600" y="2439"/>
                  </a:lnTo>
                  <a:lnTo>
                    <a:pt x="21410" y="0"/>
                  </a:lnTo>
                  <a:lnTo>
                    <a:pt x="21310" y="697"/>
                  </a:lnTo>
                  <a:lnTo>
                    <a:pt x="21221" y="3135"/>
                  </a:lnTo>
                  <a:lnTo>
                    <a:pt x="21151" y="5923"/>
                  </a:lnTo>
                  <a:lnTo>
                    <a:pt x="21061" y="5748"/>
                  </a:lnTo>
                  <a:lnTo>
                    <a:pt x="20941" y="5400"/>
                  </a:lnTo>
                  <a:lnTo>
                    <a:pt x="20681" y="4006"/>
                  </a:lnTo>
                  <a:lnTo>
                    <a:pt x="20512" y="2961"/>
                  </a:lnTo>
                  <a:lnTo>
                    <a:pt x="20242" y="2439"/>
                  </a:lnTo>
                  <a:lnTo>
                    <a:pt x="19952" y="3658"/>
                  </a:lnTo>
                  <a:lnTo>
                    <a:pt x="19673" y="5748"/>
                  </a:lnTo>
                  <a:lnTo>
                    <a:pt x="19483" y="4355"/>
                  </a:lnTo>
                  <a:lnTo>
                    <a:pt x="19313" y="4006"/>
                  </a:lnTo>
                  <a:lnTo>
                    <a:pt x="19074" y="2961"/>
                  </a:lnTo>
                  <a:lnTo>
                    <a:pt x="18824" y="3310"/>
                  </a:lnTo>
                  <a:lnTo>
                    <a:pt x="18654" y="4703"/>
                  </a:lnTo>
                  <a:lnTo>
                    <a:pt x="18584" y="6445"/>
                  </a:lnTo>
                  <a:lnTo>
                    <a:pt x="18384" y="5748"/>
                  </a:lnTo>
                  <a:lnTo>
                    <a:pt x="18105" y="5748"/>
                  </a:lnTo>
                  <a:lnTo>
                    <a:pt x="17735" y="4877"/>
                  </a:lnTo>
                  <a:lnTo>
                    <a:pt x="17416" y="6445"/>
                  </a:lnTo>
                  <a:lnTo>
                    <a:pt x="17136" y="4181"/>
                  </a:lnTo>
                  <a:lnTo>
                    <a:pt x="16767" y="5748"/>
                  </a:lnTo>
                  <a:lnTo>
                    <a:pt x="16417" y="9406"/>
                  </a:lnTo>
                  <a:lnTo>
                    <a:pt x="16118" y="8013"/>
                  </a:lnTo>
                  <a:lnTo>
                    <a:pt x="15868" y="6619"/>
                  </a:lnTo>
                  <a:lnTo>
                    <a:pt x="15578" y="5923"/>
                  </a:lnTo>
                  <a:lnTo>
                    <a:pt x="15219" y="6445"/>
                  </a:lnTo>
                  <a:lnTo>
                    <a:pt x="14650" y="7665"/>
                  </a:lnTo>
                  <a:lnTo>
                    <a:pt x="14150" y="6271"/>
                  </a:lnTo>
                  <a:lnTo>
                    <a:pt x="13931" y="6968"/>
                  </a:lnTo>
                  <a:lnTo>
                    <a:pt x="13651" y="5748"/>
                  </a:lnTo>
                  <a:lnTo>
                    <a:pt x="13461" y="4355"/>
                  </a:lnTo>
                  <a:lnTo>
                    <a:pt x="13252" y="4181"/>
                  </a:lnTo>
                  <a:lnTo>
                    <a:pt x="12852" y="4877"/>
                  </a:lnTo>
                  <a:lnTo>
                    <a:pt x="12353" y="7490"/>
                  </a:lnTo>
                  <a:lnTo>
                    <a:pt x="11923" y="5226"/>
                  </a:lnTo>
                  <a:lnTo>
                    <a:pt x="11574" y="5748"/>
                  </a:lnTo>
                  <a:lnTo>
                    <a:pt x="11234" y="8884"/>
                  </a:lnTo>
                  <a:lnTo>
                    <a:pt x="10635" y="6619"/>
                  </a:lnTo>
                  <a:lnTo>
                    <a:pt x="10176" y="7839"/>
                  </a:lnTo>
                  <a:lnTo>
                    <a:pt x="9866" y="6619"/>
                  </a:lnTo>
                  <a:lnTo>
                    <a:pt x="9417" y="7316"/>
                  </a:lnTo>
                  <a:lnTo>
                    <a:pt x="8958" y="8884"/>
                  </a:lnTo>
                  <a:lnTo>
                    <a:pt x="8648" y="8361"/>
                  </a:lnTo>
                  <a:lnTo>
                    <a:pt x="7999" y="7839"/>
                  </a:lnTo>
                  <a:lnTo>
                    <a:pt x="7589" y="8884"/>
                  </a:lnTo>
                  <a:lnTo>
                    <a:pt x="6910" y="8013"/>
                  </a:lnTo>
                  <a:lnTo>
                    <a:pt x="6351" y="7316"/>
                  </a:lnTo>
                  <a:lnTo>
                    <a:pt x="5742" y="5748"/>
                  </a:lnTo>
                  <a:lnTo>
                    <a:pt x="5173" y="7316"/>
                  </a:lnTo>
                  <a:lnTo>
                    <a:pt x="4534" y="4006"/>
                  </a:lnTo>
                  <a:lnTo>
                    <a:pt x="4034" y="4181"/>
                  </a:lnTo>
                  <a:lnTo>
                    <a:pt x="3705" y="6097"/>
                  </a:lnTo>
                  <a:lnTo>
                    <a:pt x="3485" y="4529"/>
                  </a:lnTo>
                  <a:lnTo>
                    <a:pt x="3216" y="5400"/>
                  </a:lnTo>
                  <a:lnTo>
                    <a:pt x="2866" y="5748"/>
                  </a:lnTo>
                  <a:lnTo>
                    <a:pt x="2517" y="6271"/>
                  </a:lnTo>
                  <a:lnTo>
                    <a:pt x="2107" y="7665"/>
                  </a:lnTo>
                  <a:lnTo>
                    <a:pt x="1758" y="6097"/>
                  </a:lnTo>
                  <a:lnTo>
                    <a:pt x="1428" y="6794"/>
                  </a:lnTo>
                  <a:lnTo>
                    <a:pt x="989" y="7490"/>
                  </a:lnTo>
                  <a:lnTo>
                    <a:pt x="709" y="6794"/>
                  </a:lnTo>
                  <a:lnTo>
                    <a:pt x="200" y="6445"/>
                  </a:lnTo>
                  <a:lnTo>
                    <a:pt x="0" y="8013"/>
                  </a:lnTo>
                  <a:lnTo>
                    <a:pt x="20" y="12716"/>
                  </a:lnTo>
                  <a:lnTo>
                    <a:pt x="50" y="16723"/>
                  </a:lnTo>
                  <a:lnTo>
                    <a:pt x="160" y="20206"/>
                  </a:lnTo>
                  <a:lnTo>
                    <a:pt x="290" y="20903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67120" y="165240"/>
              <a:ext cx="3378240" cy="25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465"/>
                  </a:moveTo>
                  <a:lnTo>
                    <a:pt x="0" y="16368"/>
                  </a:lnTo>
                  <a:lnTo>
                    <a:pt x="0" y="21600"/>
                  </a:lnTo>
                  <a:lnTo>
                    <a:pt x="51" y="17307"/>
                  </a:lnTo>
                  <a:lnTo>
                    <a:pt x="71" y="13953"/>
                  </a:lnTo>
                  <a:lnTo>
                    <a:pt x="91" y="7781"/>
                  </a:lnTo>
                  <a:lnTo>
                    <a:pt x="152" y="4830"/>
                  </a:lnTo>
                  <a:lnTo>
                    <a:pt x="284" y="3891"/>
                  </a:lnTo>
                  <a:lnTo>
                    <a:pt x="609" y="3220"/>
                  </a:lnTo>
                  <a:lnTo>
                    <a:pt x="1025" y="3354"/>
                  </a:lnTo>
                  <a:lnTo>
                    <a:pt x="2030" y="3354"/>
                  </a:lnTo>
                  <a:lnTo>
                    <a:pt x="2467" y="3891"/>
                  </a:lnTo>
                  <a:lnTo>
                    <a:pt x="3106" y="3354"/>
                  </a:lnTo>
                  <a:lnTo>
                    <a:pt x="3837" y="3757"/>
                  </a:lnTo>
                  <a:lnTo>
                    <a:pt x="4375" y="3622"/>
                  </a:lnTo>
                  <a:lnTo>
                    <a:pt x="5451" y="3891"/>
                  </a:lnTo>
                  <a:lnTo>
                    <a:pt x="5826" y="3891"/>
                  </a:lnTo>
                  <a:lnTo>
                    <a:pt x="6547" y="3354"/>
                  </a:lnTo>
                  <a:lnTo>
                    <a:pt x="6791" y="4025"/>
                  </a:lnTo>
                  <a:lnTo>
                    <a:pt x="7461" y="3354"/>
                  </a:lnTo>
                  <a:lnTo>
                    <a:pt x="8486" y="3891"/>
                  </a:lnTo>
                  <a:lnTo>
                    <a:pt x="8831" y="4427"/>
                  </a:lnTo>
                  <a:lnTo>
                    <a:pt x="9369" y="3891"/>
                  </a:lnTo>
                  <a:lnTo>
                    <a:pt x="9826" y="4696"/>
                  </a:lnTo>
                  <a:lnTo>
                    <a:pt x="10211" y="4696"/>
                  </a:lnTo>
                  <a:lnTo>
                    <a:pt x="10952" y="3891"/>
                  </a:lnTo>
                  <a:lnTo>
                    <a:pt x="11663" y="4427"/>
                  </a:lnTo>
                  <a:lnTo>
                    <a:pt x="12302" y="5366"/>
                  </a:lnTo>
                  <a:lnTo>
                    <a:pt x="12495" y="5501"/>
                  </a:lnTo>
                  <a:lnTo>
                    <a:pt x="13358" y="4964"/>
                  </a:lnTo>
                  <a:lnTo>
                    <a:pt x="14160" y="4561"/>
                  </a:lnTo>
                  <a:lnTo>
                    <a:pt x="14353" y="4293"/>
                  </a:lnTo>
                  <a:lnTo>
                    <a:pt x="14647" y="4427"/>
                  </a:lnTo>
                  <a:lnTo>
                    <a:pt x="15479" y="4830"/>
                  </a:lnTo>
                  <a:lnTo>
                    <a:pt x="16119" y="4025"/>
                  </a:lnTo>
                  <a:lnTo>
                    <a:pt x="16454" y="4293"/>
                  </a:lnTo>
                  <a:lnTo>
                    <a:pt x="16961" y="4427"/>
                  </a:lnTo>
                  <a:lnTo>
                    <a:pt x="17398" y="3891"/>
                  </a:lnTo>
                  <a:lnTo>
                    <a:pt x="17682" y="3354"/>
                  </a:lnTo>
                  <a:lnTo>
                    <a:pt x="18078" y="4293"/>
                  </a:lnTo>
                  <a:lnTo>
                    <a:pt x="18880" y="4561"/>
                  </a:lnTo>
                  <a:lnTo>
                    <a:pt x="19418" y="3354"/>
                  </a:lnTo>
                  <a:lnTo>
                    <a:pt x="20199" y="4427"/>
                  </a:lnTo>
                  <a:lnTo>
                    <a:pt x="20768" y="4427"/>
                  </a:lnTo>
                  <a:lnTo>
                    <a:pt x="21062" y="4427"/>
                  </a:lnTo>
                  <a:lnTo>
                    <a:pt x="21245" y="6306"/>
                  </a:lnTo>
                  <a:lnTo>
                    <a:pt x="21367" y="7245"/>
                  </a:lnTo>
                  <a:lnTo>
                    <a:pt x="21468" y="9123"/>
                  </a:lnTo>
                  <a:lnTo>
                    <a:pt x="21539" y="12343"/>
                  </a:lnTo>
                  <a:lnTo>
                    <a:pt x="21600" y="16636"/>
                  </a:lnTo>
                  <a:lnTo>
                    <a:pt x="21600" y="7781"/>
                  </a:lnTo>
                  <a:lnTo>
                    <a:pt x="21600" y="5501"/>
                  </a:lnTo>
                  <a:lnTo>
                    <a:pt x="21570" y="4025"/>
                  </a:lnTo>
                  <a:lnTo>
                    <a:pt x="21519" y="2147"/>
                  </a:lnTo>
                  <a:lnTo>
                    <a:pt x="21204" y="939"/>
                  </a:lnTo>
                  <a:lnTo>
                    <a:pt x="20037" y="805"/>
                  </a:lnTo>
                  <a:lnTo>
                    <a:pt x="19753" y="134"/>
                  </a:lnTo>
                  <a:lnTo>
                    <a:pt x="18829" y="134"/>
                  </a:lnTo>
                  <a:lnTo>
                    <a:pt x="18565" y="402"/>
                  </a:lnTo>
                  <a:lnTo>
                    <a:pt x="18007" y="402"/>
                  </a:lnTo>
                  <a:lnTo>
                    <a:pt x="17591" y="268"/>
                  </a:lnTo>
                  <a:lnTo>
                    <a:pt x="16829" y="1073"/>
                  </a:lnTo>
                  <a:lnTo>
                    <a:pt x="15236" y="402"/>
                  </a:lnTo>
                  <a:lnTo>
                    <a:pt x="14748" y="805"/>
                  </a:lnTo>
                  <a:lnTo>
                    <a:pt x="13865" y="1342"/>
                  </a:lnTo>
                  <a:lnTo>
                    <a:pt x="13307" y="805"/>
                  </a:lnTo>
                  <a:lnTo>
                    <a:pt x="12749" y="805"/>
                  </a:lnTo>
                  <a:lnTo>
                    <a:pt x="12302" y="805"/>
                  </a:lnTo>
                  <a:lnTo>
                    <a:pt x="11815" y="1207"/>
                  </a:lnTo>
                  <a:lnTo>
                    <a:pt x="11521" y="537"/>
                  </a:lnTo>
                  <a:lnTo>
                    <a:pt x="10465" y="805"/>
                  </a:lnTo>
                  <a:lnTo>
                    <a:pt x="10150" y="805"/>
                  </a:lnTo>
                  <a:lnTo>
                    <a:pt x="9592" y="537"/>
                  </a:lnTo>
                  <a:lnTo>
                    <a:pt x="8496" y="805"/>
                  </a:lnTo>
                  <a:lnTo>
                    <a:pt x="7521" y="537"/>
                  </a:lnTo>
                  <a:lnTo>
                    <a:pt x="6618" y="537"/>
                  </a:lnTo>
                  <a:lnTo>
                    <a:pt x="6192" y="805"/>
                  </a:lnTo>
                  <a:lnTo>
                    <a:pt x="5776" y="268"/>
                  </a:lnTo>
                  <a:lnTo>
                    <a:pt x="5430" y="268"/>
                  </a:lnTo>
                  <a:lnTo>
                    <a:pt x="4375" y="268"/>
                  </a:lnTo>
                  <a:lnTo>
                    <a:pt x="3167" y="537"/>
                  </a:lnTo>
                  <a:lnTo>
                    <a:pt x="2598" y="268"/>
                  </a:lnTo>
                  <a:lnTo>
                    <a:pt x="1929" y="537"/>
                  </a:lnTo>
                  <a:lnTo>
                    <a:pt x="1086" y="0"/>
                  </a:lnTo>
                  <a:lnTo>
                    <a:pt x="568" y="0"/>
                  </a:lnTo>
                  <a:lnTo>
                    <a:pt x="345" y="134"/>
                  </a:lnTo>
                  <a:lnTo>
                    <a:pt x="193" y="805"/>
                  </a:lnTo>
                  <a:lnTo>
                    <a:pt x="51" y="2415"/>
                  </a:lnTo>
                  <a:lnTo>
                    <a:pt x="10" y="4964"/>
                  </a:lnTo>
                  <a:lnTo>
                    <a:pt x="0" y="7513"/>
                  </a:lnTo>
                  <a:lnTo>
                    <a:pt x="0" y="1046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73600" y="576360"/>
              <a:ext cx="3376440" cy="10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0" y="5063"/>
                  </a:lnTo>
                  <a:lnTo>
                    <a:pt x="0" y="0"/>
                  </a:lnTo>
                  <a:lnTo>
                    <a:pt x="61" y="4050"/>
                  </a:lnTo>
                  <a:lnTo>
                    <a:pt x="71" y="7425"/>
                  </a:lnTo>
                  <a:lnTo>
                    <a:pt x="81" y="13500"/>
                  </a:lnTo>
                  <a:lnTo>
                    <a:pt x="152" y="16538"/>
                  </a:lnTo>
                  <a:lnTo>
                    <a:pt x="274" y="17550"/>
                  </a:lnTo>
                  <a:lnTo>
                    <a:pt x="406" y="16875"/>
                  </a:lnTo>
                  <a:lnTo>
                    <a:pt x="599" y="16538"/>
                  </a:lnTo>
                  <a:lnTo>
                    <a:pt x="924" y="16200"/>
                  </a:lnTo>
                  <a:lnTo>
                    <a:pt x="1117" y="16538"/>
                  </a:lnTo>
                  <a:lnTo>
                    <a:pt x="1290" y="16538"/>
                  </a:lnTo>
                  <a:lnTo>
                    <a:pt x="1645" y="16875"/>
                  </a:lnTo>
                  <a:lnTo>
                    <a:pt x="1777" y="17213"/>
                  </a:lnTo>
                  <a:lnTo>
                    <a:pt x="1950" y="17213"/>
                  </a:lnTo>
                  <a:lnTo>
                    <a:pt x="2224" y="16538"/>
                  </a:lnTo>
                  <a:lnTo>
                    <a:pt x="2518" y="16200"/>
                  </a:lnTo>
                  <a:lnTo>
                    <a:pt x="2884" y="16200"/>
                  </a:lnTo>
                  <a:lnTo>
                    <a:pt x="3321" y="17213"/>
                  </a:lnTo>
                  <a:lnTo>
                    <a:pt x="3889" y="17888"/>
                  </a:lnTo>
                  <a:lnTo>
                    <a:pt x="4194" y="17213"/>
                  </a:lnTo>
                  <a:lnTo>
                    <a:pt x="4377" y="17888"/>
                  </a:lnTo>
                  <a:lnTo>
                    <a:pt x="4864" y="17888"/>
                  </a:lnTo>
                  <a:lnTo>
                    <a:pt x="5037" y="16875"/>
                  </a:lnTo>
                  <a:lnTo>
                    <a:pt x="5250" y="17550"/>
                  </a:lnTo>
                  <a:lnTo>
                    <a:pt x="5829" y="17550"/>
                  </a:lnTo>
                  <a:lnTo>
                    <a:pt x="6550" y="17888"/>
                  </a:lnTo>
                  <a:lnTo>
                    <a:pt x="6794" y="17213"/>
                  </a:lnTo>
                  <a:lnTo>
                    <a:pt x="7362" y="16538"/>
                  </a:lnTo>
                  <a:lnTo>
                    <a:pt x="7738" y="16200"/>
                  </a:lnTo>
                  <a:lnTo>
                    <a:pt x="8175" y="16875"/>
                  </a:lnTo>
                  <a:lnTo>
                    <a:pt x="8480" y="17550"/>
                  </a:lnTo>
                  <a:lnTo>
                    <a:pt x="8825" y="16875"/>
                  </a:lnTo>
                  <a:lnTo>
                    <a:pt x="9434" y="17550"/>
                  </a:lnTo>
                  <a:lnTo>
                    <a:pt x="9830" y="16538"/>
                  </a:lnTo>
                  <a:lnTo>
                    <a:pt x="10206" y="16538"/>
                  </a:lnTo>
                  <a:lnTo>
                    <a:pt x="10602" y="15525"/>
                  </a:lnTo>
                  <a:lnTo>
                    <a:pt x="11100" y="16875"/>
                  </a:lnTo>
                  <a:lnTo>
                    <a:pt x="11750" y="15863"/>
                  </a:lnTo>
                  <a:lnTo>
                    <a:pt x="12491" y="15863"/>
                  </a:lnTo>
                  <a:lnTo>
                    <a:pt x="13151" y="16538"/>
                  </a:lnTo>
                  <a:lnTo>
                    <a:pt x="13547" y="15525"/>
                  </a:lnTo>
                  <a:lnTo>
                    <a:pt x="13984" y="15525"/>
                  </a:lnTo>
                  <a:lnTo>
                    <a:pt x="14156" y="16875"/>
                  </a:lnTo>
                  <a:lnTo>
                    <a:pt x="14339" y="17213"/>
                  </a:lnTo>
                  <a:lnTo>
                    <a:pt x="14918" y="16538"/>
                  </a:lnTo>
                  <a:lnTo>
                    <a:pt x="15426" y="17213"/>
                  </a:lnTo>
                  <a:lnTo>
                    <a:pt x="16116" y="17213"/>
                  </a:lnTo>
                  <a:lnTo>
                    <a:pt x="16309" y="17213"/>
                  </a:lnTo>
                  <a:lnTo>
                    <a:pt x="16441" y="17213"/>
                  </a:lnTo>
                  <a:lnTo>
                    <a:pt x="16614" y="16200"/>
                  </a:lnTo>
                  <a:lnTo>
                    <a:pt x="16959" y="16875"/>
                  </a:lnTo>
                  <a:lnTo>
                    <a:pt x="17122" y="17213"/>
                  </a:lnTo>
                  <a:lnTo>
                    <a:pt x="17243" y="16875"/>
                  </a:lnTo>
                  <a:lnTo>
                    <a:pt x="17386" y="17550"/>
                  </a:lnTo>
                  <a:lnTo>
                    <a:pt x="17660" y="16538"/>
                  </a:lnTo>
                  <a:lnTo>
                    <a:pt x="18096" y="17213"/>
                  </a:lnTo>
                  <a:lnTo>
                    <a:pt x="18523" y="16200"/>
                  </a:lnTo>
                  <a:lnTo>
                    <a:pt x="18696" y="16875"/>
                  </a:lnTo>
                  <a:lnTo>
                    <a:pt x="18878" y="16875"/>
                  </a:lnTo>
                  <a:lnTo>
                    <a:pt x="19671" y="16200"/>
                  </a:lnTo>
                  <a:lnTo>
                    <a:pt x="20442" y="16875"/>
                  </a:lnTo>
                  <a:lnTo>
                    <a:pt x="21041" y="15863"/>
                  </a:lnTo>
                  <a:lnTo>
                    <a:pt x="21245" y="15188"/>
                  </a:lnTo>
                  <a:lnTo>
                    <a:pt x="21366" y="14175"/>
                  </a:lnTo>
                  <a:lnTo>
                    <a:pt x="21458" y="12150"/>
                  </a:lnTo>
                  <a:lnTo>
                    <a:pt x="21529" y="9113"/>
                  </a:lnTo>
                  <a:lnTo>
                    <a:pt x="21600" y="4725"/>
                  </a:lnTo>
                  <a:lnTo>
                    <a:pt x="21600" y="13500"/>
                  </a:lnTo>
                  <a:lnTo>
                    <a:pt x="21600" y="15863"/>
                  </a:lnTo>
                  <a:lnTo>
                    <a:pt x="21570" y="17213"/>
                  </a:lnTo>
                  <a:lnTo>
                    <a:pt x="21509" y="19238"/>
                  </a:lnTo>
                  <a:lnTo>
                    <a:pt x="21397" y="20588"/>
                  </a:lnTo>
                  <a:lnTo>
                    <a:pt x="20605" y="21600"/>
                  </a:lnTo>
                  <a:lnTo>
                    <a:pt x="20026" y="20588"/>
                  </a:lnTo>
                  <a:lnTo>
                    <a:pt x="19752" y="21263"/>
                  </a:lnTo>
                  <a:lnTo>
                    <a:pt x="18828" y="21263"/>
                  </a:lnTo>
                  <a:lnTo>
                    <a:pt x="18564" y="20925"/>
                  </a:lnTo>
                  <a:lnTo>
                    <a:pt x="18279" y="21600"/>
                  </a:lnTo>
                  <a:lnTo>
                    <a:pt x="17995" y="20925"/>
                  </a:lnTo>
                  <a:lnTo>
                    <a:pt x="17660" y="21600"/>
                  </a:lnTo>
                  <a:lnTo>
                    <a:pt x="16786" y="21263"/>
                  </a:lnTo>
                  <a:lnTo>
                    <a:pt x="16533" y="20250"/>
                  </a:lnTo>
                  <a:lnTo>
                    <a:pt x="15710" y="21263"/>
                  </a:lnTo>
                  <a:lnTo>
                    <a:pt x="15162" y="19913"/>
                  </a:lnTo>
                  <a:lnTo>
                    <a:pt x="14522" y="21263"/>
                  </a:lnTo>
                  <a:lnTo>
                    <a:pt x="14034" y="20588"/>
                  </a:lnTo>
                  <a:lnTo>
                    <a:pt x="13567" y="21263"/>
                  </a:lnTo>
                  <a:lnTo>
                    <a:pt x="13303" y="20588"/>
                  </a:lnTo>
                  <a:lnTo>
                    <a:pt x="13070" y="20588"/>
                  </a:lnTo>
                  <a:lnTo>
                    <a:pt x="12755" y="20588"/>
                  </a:lnTo>
                  <a:lnTo>
                    <a:pt x="12542" y="20250"/>
                  </a:lnTo>
                  <a:lnTo>
                    <a:pt x="12308" y="20925"/>
                  </a:lnTo>
                  <a:lnTo>
                    <a:pt x="12064" y="20250"/>
                  </a:lnTo>
                  <a:lnTo>
                    <a:pt x="11810" y="20250"/>
                  </a:lnTo>
                  <a:lnTo>
                    <a:pt x="11516" y="20925"/>
                  </a:lnTo>
                  <a:lnTo>
                    <a:pt x="11232" y="21263"/>
                  </a:lnTo>
                  <a:lnTo>
                    <a:pt x="10917" y="21263"/>
                  </a:lnTo>
                  <a:lnTo>
                    <a:pt x="10460" y="20925"/>
                  </a:lnTo>
                  <a:lnTo>
                    <a:pt x="10135" y="21263"/>
                  </a:lnTo>
                  <a:lnTo>
                    <a:pt x="9861" y="20925"/>
                  </a:lnTo>
                  <a:lnTo>
                    <a:pt x="9597" y="20925"/>
                  </a:lnTo>
                  <a:lnTo>
                    <a:pt x="8987" y="21600"/>
                  </a:lnTo>
                  <a:lnTo>
                    <a:pt x="8500" y="20588"/>
                  </a:lnTo>
                  <a:lnTo>
                    <a:pt x="7962" y="21600"/>
                  </a:lnTo>
                  <a:lnTo>
                    <a:pt x="7515" y="20925"/>
                  </a:lnTo>
                  <a:lnTo>
                    <a:pt x="7027" y="21600"/>
                  </a:lnTo>
                  <a:lnTo>
                    <a:pt x="6621" y="20925"/>
                  </a:lnTo>
                  <a:lnTo>
                    <a:pt x="6184" y="20588"/>
                  </a:lnTo>
                  <a:lnTo>
                    <a:pt x="5778" y="20925"/>
                  </a:lnTo>
                  <a:lnTo>
                    <a:pt x="5423" y="20925"/>
                  </a:lnTo>
                  <a:lnTo>
                    <a:pt x="4377" y="20925"/>
                  </a:lnTo>
                  <a:lnTo>
                    <a:pt x="4072" y="21263"/>
                  </a:lnTo>
                  <a:lnTo>
                    <a:pt x="3158" y="20925"/>
                  </a:lnTo>
                  <a:lnTo>
                    <a:pt x="2600" y="20925"/>
                  </a:lnTo>
                  <a:lnTo>
                    <a:pt x="1046" y="20588"/>
                  </a:lnTo>
                  <a:lnTo>
                    <a:pt x="193" y="20588"/>
                  </a:lnTo>
                  <a:lnTo>
                    <a:pt x="41" y="18900"/>
                  </a:lnTo>
                  <a:lnTo>
                    <a:pt x="10" y="16538"/>
                  </a:lnTo>
                  <a:lnTo>
                    <a:pt x="0" y="13838"/>
                  </a:lnTo>
                  <a:lnTo>
                    <a:pt x="0" y="1080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0" y="2502000"/>
            <a:ext cx="9144000" cy="4356000"/>
          </a:xfrm>
          <a:prstGeom prst="rect">
            <a:avLst/>
          </a:prstGeom>
          <a:noFill/>
          <a:ln w="0">
            <a:noFill/>
          </a:ln>
        </p:spPr>
        <p:txBody>
          <a:bodyPr lIns="38160" rIns="82440" tIns="38160" bIns="38160" anchor="ctr">
            <a:normAutofit/>
          </a:bodyPr>
          <a:p>
            <a:pPr marL="384120" indent="-342720">
              <a:lnSpc>
                <a:spcPct val="80000"/>
              </a:lnSpc>
              <a:spcBef>
                <a:spcPts val="33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cc"/>
                </a:solidFill>
                <a:latin typeface="Gill Sans"/>
              </a:rPr>
              <a:t>BURIAL TOMBS: </a:t>
            </a:r>
            <a:r>
              <a:rPr b="0" lang="en-US" sz="2200" spc="-1" strike="noStrike">
                <a:solidFill>
                  <a:srgbClr val="ff2712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d90b00"/>
                </a:solidFill>
                <a:latin typeface="Gill Sans"/>
              </a:rPr>
              <a:t>four-sided stone structure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d90b00"/>
                </a:solidFill>
                <a:latin typeface="Gill Sans"/>
              </a:rPr>
              <a:t>that symbolizes the sacred mountain=heavens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384120" indent="-342720">
              <a:lnSpc>
                <a:spcPct val="80000"/>
              </a:lnSpc>
              <a:spcBef>
                <a:spcPts val="33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cc"/>
                </a:solidFill>
                <a:latin typeface="Gill Sans"/>
              </a:rPr>
              <a:t>PURPOSE:  </a:t>
            </a:r>
            <a:r>
              <a:rPr b="0" lang="en-US" sz="2200" spc="-1" strike="noStrike">
                <a:solidFill>
                  <a:srgbClr val="d90b00"/>
                </a:solidFill>
                <a:latin typeface="Gill Sans"/>
              </a:rPr>
              <a:t>Because the Pharaoh was viewed as a god. Pharaoh required a tomb where his body would be preserved and surrounded by materials he would need whenever his spirit returned to his body</a:t>
            </a:r>
            <a:br>
              <a:rPr sz="2200"/>
            </a:br>
            <a:r>
              <a:rPr b="0" lang="en-US" sz="2200" spc="-1" strike="noStrike">
                <a:solidFill>
                  <a:srgbClr val="c97100"/>
                </a:solidFill>
                <a:latin typeface="Gill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4952880" y="469800"/>
            <a:ext cx="4114800" cy="2349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8" name=""/>
          <p:cNvSpPr/>
          <p:nvPr/>
        </p:nvSpPr>
        <p:spPr>
          <a:xfrm rot="20820000">
            <a:off x="69480" y="1088640"/>
            <a:ext cx="52070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dcc"/>
                </a:solidFill>
                <a:latin typeface="Gill Sans"/>
                <a:ea typeface="Gill Sans"/>
              </a:rPr>
              <a:t>PYRAMIDS 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587760" y="54000"/>
            <a:ext cx="1981080" cy="65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7" y="3521"/>
                </a:moveTo>
                <a:lnTo>
                  <a:pt x="450" y="3258"/>
                </a:lnTo>
                <a:lnTo>
                  <a:pt x="7823" y="3258"/>
                </a:lnTo>
                <a:lnTo>
                  <a:pt x="8360" y="2102"/>
                </a:lnTo>
                <a:lnTo>
                  <a:pt x="8740" y="1419"/>
                </a:lnTo>
                <a:lnTo>
                  <a:pt x="9104" y="893"/>
                </a:lnTo>
                <a:lnTo>
                  <a:pt x="9554" y="578"/>
                </a:lnTo>
                <a:lnTo>
                  <a:pt x="10004" y="263"/>
                </a:lnTo>
                <a:lnTo>
                  <a:pt x="10471" y="105"/>
                </a:lnTo>
                <a:lnTo>
                  <a:pt x="11060" y="0"/>
                </a:lnTo>
                <a:lnTo>
                  <a:pt x="11735" y="263"/>
                </a:lnTo>
                <a:lnTo>
                  <a:pt x="12358" y="788"/>
                </a:lnTo>
                <a:lnTo>
                  <a:pt x="12808" y="1419"/>
                </a:lnTo>
                <a:lnTo>
                  <a:pt x="13292" y="2102"/>
                </a:lnTo>
                <a:lnTo>
                  <a:pt x="13604" y="2680"/>
                </a:lnTo>
                <a:lnTo>
                  <a:pt x="13881" y="3364"/>
                </a:lnTo>
                <a:lnTo>
                  <a:pt x="20925" y="3258"/>
                </a:lnTo>
                <a:lnTo>
                  <a:pt x="21167" y="3469"/>
                </a:lnTo>
                <a:lnTo>
                  <a:pt x="21340" y="3836"/>
                </a:lnTo>
                <a:lnTo>
                  <a:pt x="21496" y="4782"/>
                </a:lnTo>
                <a:lnTo>
                  <a:pt x="21565" y="5886"/>
                </a:lnTo>
                <a:lnTo>
                  <a:pt x="21600" y="7200"/>
                </a:lnTo>
                <a:lnTo>
                  <a:pt x="21600" y="18342"/>
                </a:lnTo>
                <a:lnTo>
                  <a:pt x="14002" y="18394"/>
                </a:lnTo>
                <a:lnTo>
                  <a:pt x="12115" y="21495"/>
                </a:lnTo>
                <a:lnTo>
                  <a:pt x="9052" y="21600"/>
                </a:lnTo>
                <a:lnTo>
                  <a:pt x="7563" y="18184"/>
                </a:lnTo>
                <a:lnTo>
                  <a:pt x="796" y="18342"/>
                </a:lnTo>
                <a:lnTo>
                  <a:pt x="0" y="18342"/>
                </a:lnTo>
                <a:lnTo>
                  <a:pt x="0" y="7988"/>
                </a:lnTo>
                <a:lnTo>
                  <a:pt x="0" y="6464"/>
                </a:lnTo>
                <a:lnTo>
                  <a:pt x="87" y="4940"/>
                </a:lnTo>
                <a:lnTo>
                  <a:pt x="156" y="4204"/>
                </a:lnTo>
                <a:lnTo>
                  <a:pt x="277" y="3521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3586320" y="452520"/>
            <a:ext cx="1982520" cy="30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4" y="4297"/>
                </a:moveTo>
                <a:lnTo>
                  <a:pt x="1038" y="4750"/>
                </a:lnTo>
                <a:lnTo>
                  <a:pt x="1366" y="4297"/>
                </a:lnTo>
                <a:lnTo>
                  <a:pt x="1695" y="4750"/>
                </a:lnTo>
                <a:lnTo>
                  <a:pt x="1937" y="6107"/>
                </a:lnTo>
                <a:lnTo>
                  <a:pt x="2214" y="7125"/>
                </a:lnTo>
                <a:lnTo>
                  <a:pt x="2663" y="6220"/>
                </a:lnTo>
                <a:lnTo>
                  <a:pt x="3044" y="5768"/>
                </a:lnTo>
                <a:lnTo>
                  <a:pt x="3597" y="5768"/>
                </a:lnTo>
                <a:lnTo>
                  <a:pt x="3995" y="5089"/>
                </a:lnTo>
                <a:lnTo>
                  <a:pt x="4341" y="5654"/>
                </a:lnTo>
                <a:lnTo>
                  <a:pt x="4652" y="6446"/>
                </a:lnTo>
                <a:lnTo>
                  <a:pt x="4929" y="6785"/>
                </a:lnTo>
                <a:lnTo>
                  <a:pt x="5378" y="5768"/>
                </a:lnTo>
                <a:lnTo>
                  <a:pt x="5845" y="5768"/>
                </a:lnTo>
                <a:lnTo>
                  <a:pt x="6537" y="6107"/>
                </a:lnTo>
                <a:lnTo>
                  <a:pt x="6814" y="7464"/>
                </a:lnTo>
                <a:lnTo>
                  <a:pt x="7263" y="7125"/>
                </a:lnTo>
                <a:lnTo>
                  <a:pt x="7903" y="6785"/>
                </a:lnTo>
                <a:lnTo>
                  <a:pt x="8353" y="9047"/>
                </a:lnTo>
                <a:lnTo>
                  <a:pt x="8612" y="9499"/>
                </a:lnTo>
                <a:lnTo>
                  <a:pt x="8872" y="11196"/>
                </a:lnTo>
                <a:lnTo>
                  <a:pt x="9010" y="13684"/>
                </a:lnTo>
                <a:lnTo>
                  <a:pt x="9269" y="14702"/>
                </a:lnTo>
                <a:lnTo>
                  <a:pt x="9598" y="14702"/>
                </a:lnTo>
                <a:lnTo>
                  <a:pt x="9996" y="14588"/>
                </a:lnTo>
                <a:lnTo>
                  <a:pt x="10394" y="14702"/>
                </a:lnTo>
                <a:lnTo>
                  <a:pt x="10670" y="15719"/>
                </a:lnTo>
                <a:lnTo>
                  <a:pt x="10895" y="14928"/>
                </a:lnTo>
                <a:lnTo>
                  <a:pt x="11258" y="14815"/>
                </a:lnTo>
                <a:lnTo>
                  <a:pt x="11621" y="13345"/>
                </a:lnTo>
                <a:lnTo>
                  <a:pt x="11898" y="13684"/>
                </a:lnTo>
                <a:lnTo>
                  <a:pt x="12382" y="13231"/>
                </a:lnTo>
                <a:lnTo>
                  <a:pt x="12590" y="11422"/>
                </a:lnTo>
                <a:lnTo>
                  <a:pt x="13161" y="9952"/>
                </a:lnTo>
                <a:lnTo>
                  <a:pt x="13299" y="7690"/>
                </a:lnTo>
                <a:lnTo>
                  <a:pt x="13593" y="6559"/>
                </a:lnTo>
                <a:lnTo>
                  <a:pt x="14077" y="5881"/>
                </a:lnTo>
                <a:lnTo>
                  <a:pt x="14337" y="6785"/>
                </a:lnTo>
                <a:lnTo>
                  <a:pt x="14596" y="6333"/>
                </a:lnTo>
                <a:lnTo>
                  <a:pt x="14907" y="7125"/>
                </a:lnTo>
                <a:lnTo>
                  <a:pt x="15236" y="6446"/>
                </a:lnTo>
                <a:lnTo>
                  <a:pt x="15858" y="7125"/>
                </a:lnTo>
                <a:lnTo>
                  <a:pt x="16135" y="7803"/>
                </a:lnTo>
                <a:lnTo>
                  <a:pt x="16446" y="5994"/>
                </a:lnTo>
                <a:lnTo>
                  <a:pt x="16654" y="5768"/>
                </a:lnTo>
                <a:lnTo>
                  <a:pt x="16896" y="6446"/>
                </a:lnTo>
                <a:lnTo>
                  <a:pt x="17104" y="6220"/>
                </a:lnTo>
                <a:lnTo>
                  <a:pt x="17398" y="4297"/>
                </a:lnTo>
                <a:lnTo>
                  <a:pt x="17899" y="3732"/>
                </a:lnTo>
                <a:lnTo>
                  <a:pt x="18141" y="3958"/>
                </a:lnTo>
                <a:lnTo>
                  <a:pt x="18383" y="3958"/>
                </a:lnTo>
                <a:lnTo>
                  <a:pt x="18747" y="1696"/>
                </a:lnTo>
                <a:lnTo>
                  <a:pt x="18954" y="679"/>
                </a:lnTo>
                <a:lnTo>
                  <a:pt x="19231" y="1131"/>
                </a:lnTo>
                <a:lnTo>
                  <a:pt x="19542" y="3619"/>
                </a:lnTo>
                <a:lnTo>
                  <a:pt x="19853" y="2036"/>
                </a:lnTo>
                <a:lnTo>
                  <a:pt x="20130" y="0"/>
                </a:lnTo>
                <a:lnTo>
                  <a:pt x="20389" y="113"/>
                </a:lnTo>
                <a:lnTo>
                  <a:pt x="20666" y="4297"/>
                </a:lnTo>
                <a:lnTo>
                  <a:pt x="20908" y="3619"/>
                </a:lnTo>
                <a:lnTo>
                  <a:pt x="21220" y="1809"/>
                </a:lnTo>
                <a:lnTo>
                  <a:pt x="21462" y="1809"/>
                </a:lnTo>
                <a:lnTo>
                  <a:pt x="21600" y="3166"/>
                </a:lnTo>
                <a:lnTo>
                  <a:pt x="21600" y="13797"/>
                </a:lnTo>
                <a:lnTo>
                  <a:pt x="14216" y="16285"/>
                </a:lnTo>
                <a:lnTo>
                  <a:pt x="11967" y="20695"/>
                </a:lnTo>
                <a:lnTo>
                  <a:pt x="9736" y="21600"/>
                </a:lnTo>
                <a:lnTo>
                  <a:pt x="8630" y="17642"/>
                </a:lnTo>
                <a:lnTo>
                  <a:pt x="7627" y="11083"/>
                </a:lnTo>
                <a:lnTo>
                  <a:pt x="0" y="9952"/>
                </a:lnTo>
                <a:lnTo>
                  <a:pt x="0" y="2149"/>
                </a:lnTo>
                <a:lnTo>
                  <a:pt x="121" y="3393"/>
                </a:lnTo>
                <a:lnTo>
                  <a:pt x="311" y="3732"/>
                </a:lnTo>
                <a:lnTo>
                  <a:pt x="553" y="3845"/>
                </a:lnTo>
                <a:lnTo>
                  <a:pt x="744" y="4297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3586320" y="507960"/>
            <a:ext cx="19825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7" y="13725"/>
                </a:moveTo>
                <a:lnTo>
                  <a:pt x="450" y="14063"/>
                </a:lnTo>
                <a:lnTo>
                  <a:pt x="657" y="14063"/>
                </a:lnTo>
                <a:lnTo>
                  <a:pt x="7782" y="14063"/>
                </a:lnTo>
                <a:lnTo>
                  <a:pt x="7921" y="15188"/>
                </a:lnTo>
                <a:lnTo>
                  <a:pt x="8422" y="17438"/>
                </a:lnTo>
                <a:lnTo>
                  <a:pt x="8837" y="18675"/>
                </a:lnTo>
                <a:lnTo>
                  <a:pt x="9200" y="19688"/>
                </a:lnTo>
                <a:lnTo>
                  <a:pt x="9667" y="20700"/>
                </a:lnTo>
                <a:lnTo>
                  <a:pt x="10151" y="21150"/>
                </a:lnTo>
                <a:lnTo>
                  <a:pt x="10912" y="21600"/>
                </a:lnTo>
                <a:lnTo>
                  <a:pt x="11621" y="21150"/>
                </a:lnTo>
                <a:lnTo>
                  <a:pt x="12503" y="20025"/>
                </a:lnTo>
                <a:lnTo>
                  <a:pt x="13299" y="17775"/>
                </a:lnTo>
                <a:lnTo>
                  <a:pt x="13783" y="15413"/>
                </a:lnTo>
                <a:lnTo>
                  <a:pt x="14025" y="14063"/>
                </a:lnTo>
                <a:lnTo>
                  <a:pt x="20926" y="14063"/>
                </a:lnTo>
                <a:lnTo>
                  <a:pt x="21168" y="13950"/>
                </a:lnTo>
                <a:lnTo>
                  <a:pt x="21341" y="13613"/>
                </a:lnTo>
                <a:lnTo>
                  <a:pt x="21496" y="12825"/>
                </a:lnTo>
                <a:lnTo>
                  <a:pt x="21565" y="11925"/>
                </a:lnTo>
                <a:lnTo>
                  <a:pt x="21600" y="10800"/>
                </a:lnTo>
                <a:lnTo>
                  <a:pt x="21600" y="1575"/>
                </a:lnTo>
                <a:lnTo>
                  <a:pt x="21410" y="0"/>
                </a:lnTo>
                <a:lnTo>
                  <a:pt x="21306" y="450"/>
                </a:lnTo>
                <a:lnTo>
                  <a:pt x="21220" y="2025"/>
                </a:lnTo>
                <a:lnTo>
                  <a:pt x="21150" y="3825"/>
                </a:lnTo>
                <a:lnTo>
                  <a:pt x="21064" y="3713"/>
                </a:lnTo>
                <a:lnTo>
                  <a:pt x="20943" y="3600"/>
                </a:lnTo>
                <a:lnTo>
                  <a:pt x="20683" y="2700"/>
                </a:lnTo>
                <a:lnTo>
                  <a:pt x="20510" y="1913"/>
                </a:lnTo>
                <a:lnTo>
                  <a:pt x="20234" y="1575"/>
                </a:lnTo>
                <a:lnTo>
                  <a:pt x="19940" y="2363"/>
                </a:lnTo>
                <a:lnTo>
                  <a:pt x="19680" y="3713"/>
                </a:lnTo>
                <a:lnTo>
                  <a:pt x="19473" y="2813"/>
                </a:lnTo>
                <a:lnTo>
                  <a:pt x="19317" y="2700"/>
                </a:lnTo>
                <a:lnTo>
                  <a:pt x="19075" y="1913"/>
                </a:lnTo>
                <a:lnTo>
                  <a:pt x="18833" y="2138"/>
                </a:lnTo>
                <a:lnTo>
                  <a:pt x="18660" y="3038"/>
                </a:lnTo>
                <a:lnTo>
                  <a:pt x="18574" y="4275"/>
                </a:lnTo>
                <a:lnTo>
                  <a:pt x="18383" y="3713"/>
                </a:lnTo>
                <a:lnTo>
                  <a:pt x="18089" y="3713"/>
                </a:lnTo>
                <a:lnTo>
                  <a:pt x="17726" y="3150"/>
                </a:lnTo>
                <a:lnTo>
                  <a:pt x="17415" y="4275"/>
                </a:lnTo>
                <a:lnTo>
                  <a:pt x="17121" y="2700"/>
                </a:lnTo>
                <a:lnTo>
                  <a:pt x="16758" y="3713"/>
                </a:lnTo>
                <a:lnTo>
                  <a:pt x="16412" y="6188"/>
                </a:lnTo>
                <a:lnTo>
                  <a:pt x="16118" y="5288"/>
                </a:lnTo>
                <a:lnTo>
                  <a:pt x="15858" y="4388"/>
                </a:lnTo>
                <a:lnTo>
                  <a:pt x="15582" y="3825"/>
                </a:lnTo>
                <a:lnTo>
                  <a:pt x="15219" y="4275"/>
                </a:lnTo>
                <a:lnTo>
                  <a:pt x="14648" y="4950"/>
                </a:lnTo>
                <a:lnTo>
                  <a:pt x="14146" y="4163"/>
                </a:lnTo>
                <a:lnTo>
                  <a:pt x="13956" y="4838"/>
                </a:lnTo>
                <a:lnTo>
                  <a:pt x="13731" y="6413"/>
                </a:lnTo>
                <a:lnTo>
                  <a:pt x="13541" y="9113"/>
                </a:lnTo>
                <a:lnTo>
                  <a:pt x="13334" y="10463"/>
                </a:lnTo>
                <a:lnTo>
                  <a:pt x="13230" y="12488"/>
                </a:lnTo>
                <a:lnTo>
                  <a:pt x="13005" y="13275"/>
                </a:lnTo>
                <a:lnTo>
                  <a:pt x="12607" y="13725"/>
                </a:lnTo>
                <a:lnTo>
                  <a:pt x="12158" y="13950"/>
                </a:lnTo>
                <a:lnTo>
                  <a:pt x="12054" y="14850"/>
                </a:lnTo>
                <a:lnTo>
                  <a:pt x="11466" y="14625"/>
                </a:lnTo>
                <a:lnTo>
                  <a:pt x="10964" y="15413"/>
                </a:lnTo>
                <a:lnTo>
                  <a:pt x="10463" y="15300"/>
                </a:lnTo>
                <a:lnTo>
                  <a:pt x="9615" y="16313"/>
                </a:lnTo>
                <a:lnTo>
                  <a:pt x="9148" y="13725"/>
                </a:lnTo>
                <a:lnTo>
                  <a:pt x="8630" y="13050"/>
                </a:lnTo>
                <a:lnTo>
                  <a:pt x="8094" y="8550"/>
                </a:lnTo>
                <a:lnTo>
                  <a:pt x="7851" y="6413"/>
                </a:lnTo>
                <a:lnTo>
                  <a:pt x="7592" y="5850"/>
                </a:lnTo>
                <a:lnTo>
                  <a:pt x="6900" y="5288"/>
                </a:lnTo>
                <a:lnTo>
                  <a:pt x="6347" y="4725"/>
                </a:lnTo>
                <a:lnTo>
                  <a:pt x="5742" y="3713"/>
                </a:lnTo>
                <a:lnTo>
                  <a:pt x="5171" y="4725"/>
                </a:lnTo>
                <a:lnTo>
                  <a:pt x="4531" y="2700"/>
                </a:lnTo>
                <a:lnTo>
                  <a:pt x="4029" y="2700"/>
                </a:lnTo>
                <a:lnTo>
                  <a:pt x="3701" y="3938"/>
                </a:lnTo>
                <a:lnTo>
                  <a:pt x="3493" y="2925"/>
                </a:lnTo>
                <a:lnTo>
                  <a:pt x="3217" y="3600"/>
                </a:lnTo>
                <a:lnTo>
                  <a:pt x="2853" y="3713"/>
                </a:lnTo>
                <a:lnTo>
                  <a:pt x="2508" y="4163"/>
                </a:lnTo>
                <a:lnTo>
                  <a:pt x="2110" y="4950"/>
                </a:lnTo>
                <a:lnTo>
                  <a:pt x="1764" y="3938"/>
                </a:lnTo>
                <a:lnTo>
                  <a:pt x="1418" y="4500"/>
                </a:lnTo>
                <a:lnTo>
                  <a:pt x="986" y="4838"/>
                </a:lnTo>
                <a:lnTo>
                  <a:pt x="709" y="4500"/>
                </a:lnTo>
                <a:lnTo>
                  <a:pt x="190" y="4275"/>
                </a:lnTo>
                <a:lnTo>
                  <a:pt x="0" y="5288"/>
                </a:lnTo>
                <a:lnTo>
                  <a:pt x="17" y="8325"/>
                </a:lnTo>
                <a:lnTo>
                  <a:pt x="52" y="11025"/>
                </a:lnTo>
                <a:lnTo>
                  <a:pt x="156" y="13275"/>
                </a:lnTo>
                <a:lnTo>
                  <a:pt x="277" y="13725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3598920" y="557280"/>
            <a:ext cx="1946160" cy="22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73" y="7250"/>
                </a:moveTo>
                <a:lnTo>
                  <a:pt x="5303" y="6797"/>
                </a:lnTo>
                <a:lnTo>
                  <a:pt x="4634" y="7552"/>
                </a:lnTo>
                <a:lnTo>
                  <a:pt x="3858" y="7552"/>
                </a:lnTo>
                <a:lnTo>
                  <a:pt x="2837" y="7250"/>
                </a:lnTo>
                <a:lnTo>
                  <a:pt x="1709" y="7552"/>
                </a:lnTo>
                <a:lnTo>
                  <a:pt x="1145" y="7703"/>
                </a:lnTo>
                <a:lnTo>
                  <a:pt x="705" y="7401"/>
                </a:lnTo>
                <a:lnTo>
                  <a:pt x="282" y="7703"/>
                </a:lnTo>
                <a:lnTo>
                  <a:pt x="141" y="5438"/>
                </a:lnTo>
                <a:lnTo>
                  <a:pt x="18" y="3625"/>
                </a:lnTo>
                <a:lnTo>
                  <a:pt x="0" y="6948"/>
                </a:lnTo>
                <a:lnTo>
                  <a:pt x="141" y="10120"/>
                </a:lnTo>
                <a:lnTo>
                  <a:pt x="810" y="9667"/>
                </a:lnTo>
                <a:lnTo>
                  <a:pt x="1427" y="9365"/>
                </a:lnTo>
                <a:lnTo>
                  <a:pt x="1815" y="9516"/>
                </a:lnTo>
                <a:lnTo>
                  <a:pt x="2149" y="9667"/>
                </a:lnTo>
                <a:lnTo>
                  <a:pt x="2361" y="9818"/>
                </a:lnTo>
                <a:lnTo>
                  <a:pt x="2995" y="9667"/>
                </a:lnTo>
                <a:lnTo>
                  <a:pt x="3594" y="10271"/>
                </a:lnTo>
                <a:lnTo>
                  <a:pt x="5004" y="9667"/>
                </a:lnTo>
                <a:lnTo>
                  <a:pt x="6008" y="9516"/>
                </a:lnTo>
                <a:lnTo>
                  <a:pt x="6854" y="9667"/>
                </a:lnTo>
                <a:lnTo>
                  <a:pt x="7752" y="9667"/>
                </a:lnTo>
                <a:lnTo>
                  <a:pt x="8192" y="13897"/>
                </a:lnTo>
                <a:lnTo>
                  <a:pt x="8545" y="15860"/>
                </a:lnTo>
                <a:lnTo>
                  <a:pt x="9285" y="19787"/>
                </a:lnTo>
                <a:lnTo>
                  <a:pt x="9831" y="20543"/>
                </a:lnTo>
                <a:lnTo>
                  <a:pt x="10500" y="21600"/>
                </a:lnTo>
                <a:lnTo>
                  <a:pt x="11311" y="21600"/>
                </a:lnTo>
                <a:lnTo>
                  <a:pt x="12051" y="20694"/>
                </a:lnTo>
                <a:lnTo>
                  <a:pt x="12826" y="18277"/>
                </a:lnTo>
                <a:lnTo>
                  <a:pt x="13390" y="16011"/>
                </a:lnTo>
                <a:lnTo>
                  <a:pt x="13848" y="12386"/>
                </a:lnTo>
                <a:lnTo>
                  <a:pt x="14200" y="10876"/>
                </a:lnTo>
                <a:lnTo>
                  <a:pt x="14570" y="10120"/>
                </a:lnTo>
                <a:lnTo>
                  <a:pt x="15451" y="11178"/>
                </a:lnTo>
                <a:lnTo>
                  <a:pt x="16508" y="10271"/>
                </a:lnTo>
                <a:lnTo>
                  <a:pt x="17530" y="10422"/>
                </a:lnTo>
                <a:lnTo>
                  <a:pt x="17988" y="10120"/>
                </a:lnTo>
                <a:lnTo>
                  <a:pt x="18869" y="10573"/>
                </a:lnTo>
                <a:lnTo>
                  <a:pt x="19697" y="10120"/>
                </a:lnTo>
                <a:lnTo>
                  <a:pt x="20437" y="10876"/>
                </a:lnTo>
                <a:lnTo>
                  <a:pt x="21336" y="10422"/>
                </a:lnTo>
                <a:lnTo>
                  <a:pt x="21547" y="8459"/>
                </a:lnTo>
                <a:lnTo>
                  <a:pt x="21600" y="5136"/>
                </a:lnTo>
                <a:lnTo>
                  <a:pt x="21565" y="0"/>
                </a:lnTo>
                <a:lnTo>
                  <a:pt x="21336" y="5589"/>
                </a:lnTo>
                <a:lnTo>
                  <a:pt x="21212" y="8308"/>
                </a:lnTo>
                <a:lnTo>
                  <a:pt x="20631" y="8912"/>
                </a:lnTo>
                <a:lnTo>
                  <a:pt x="19592" y="8761"/>
                </a:lnTo>
                <a:lnTo>
                  <a:pt x="18746" y="8459"/>
                </a:lnTo>
                <a:lnTo>
                  <a:pt x="17319" y="8157"/>
                </a:lnTo>
                <a:lnTo>
                  <a:pt x="16579" y="8761"/>
                </a:lnTo>
                <a:lnTo>
                  <a:pt x="15592" y="8459"/>
                </a:lnTo>
                <a:lnTo>
                  <a:pt x="14993" y="9365"/>
                </a:lnTo>
                <a:lnTo>
                  <a:pt x="14588" y="8308"/>
                </a:lnTo>
                <a:lnTo>
                  <a:pt x="14359" y="8006"/>
                </a:lnTo>
                <a:lnTo>
                  <a:pt x="14165" y="6948"/>
                </a:lnTo>
                <a:lnTo>
                  <a:pt x="14253" y="4834"/>
                </a:lnTo>
                <a:lnTo>
                  <a:pt x="14253" y="2568"/>
                </a:lnTo>
                <a:lnTo>
                  <a:pt x="14059" y="3323"/>
                </a:lnTo>
                <a:lnTo>
                  <a:pt x="13848" y="7401"/>
                </a:lnTo>
                <a:lnTo>
                  <a:pt x="13390" y="10876"/>
                </a:lnTo>
                <a:lnTo>
                  <a:pt x="13126" y="13141"/>
                </a:lnTo>
                <a:lnTo>
                  <a:pt x="12650" y="15256"/>
                </a:lnTo>
                <a:lnTo>
                  <a:pt x="12350" y="14803"/>
                </a:lnTo>
                <a:lnTo>
                  <a:pt x="11822" y="16917"/>
                </a:lnTo>
                <a:lnTo>
                  <a:pt x="11346" y="17824"/>
                </a:lnTo>
                <a:lnTo>
                  <a:pt x="10888" y="18730"/>
                </a:lnTo>
                <a:lnTo>
                  <a:pt x="10307" y="16313"/>
                </a:lnTo>
                <a:lnTo>
                  <a:pt x="9813" y="16615"/>
                </a:lnTo>
                <a:lnTo>
                  <a:pt x="9620" y="13897"/>
                </a:lnTo>
                <a:lnTo>
                  <a:pt x="9162" y="14048"/>
                </a:lnTo>
                <a:lnTo>
                  <a:pt x="8932" y="14803"/>
                </a:lnTo>
                <a:lnTo>
                  <a:pt x="8562" y="12990"/>
                </a:lnTo>
                <a:lnTo>
                  <a:pt x="8263" y="11631"/>
                </a:lnTo>
                <a:lnTo>
                  <a:pt x="8122" y="9365"/>
                </a:lnTo>
                <a:lnTo>
                  <a:pt x="7858" y="4380"/>
                </a:lnTo>
                <a:lnTo>
                  <a:pt x="7611" y="3625"/>
                </a:lnTo>
                <a:lnTo>
                  <a:pt x="7488" y="6646"/>
                </a:lnTo>
                <a:lnTo>
                  <a:pt x="7276" y="6495"/>
                </a:lnTo>
                <a:lnTo>
                  <a:pt x="6554" y="8308"/>
                </a:lnTo>
                <a:lnTo>
                  <a:pt x="5973" y="7250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4869000" y="249120"/>
            <a:ext cx="12060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95" y="508"/>
                </a:moveTo>
                <a:lnTo>
                  <a:pt x="13358" y="2118"/>
                </a:lnTo>
                <a:lnTo>
                  <a:pt x="21600" y="2287"/>
                </a:lnTo>
                <a:lnTo>
                  <a:pt x="18474" y="5167"/>
                </a:lnTo>
                <a:lnTo>
                  <a:pt x="18758" y="7369"/>
                </a:lnTo>
                <a:lnTo>
                  <a:pt x="20747" y="9318"/>
                </a:lnTo>
                <a:lnTo>
                  <a:pt x="17337" y="11266"/>
                </a:lnTo>
                <a:lnTo>
                  <a:pt x="16200" y="13299"/>
                </a:lnTo>
                <a:lnTo>
                  <a:pt x="14495" y="15332"/>
                </a:lnTo>
                <a:lnTo>
                  <a:pt x="11937" y="16687"/>
                </a:lnTo>
                <a:lnTo>
                  <a:pt x="9095" y="18042"/>
                </a:lnTo>
                <a:lnTo>
                  <a:pt x="5684" y="19482"/>
                </a:lnTo>
                <a:lnTo>
                  <a:pt x="3695" y="20414"/>
                </a:lnTo>
                <a:lnTo>
                  <a:pt x="0" y="21600"/>
                </a:lnTo>
                <a:lnTo>
                  <a:pt x="2274" y="19482"/>
                </a:lnTo>
                <a:lnTo>
                  <a:pt x="6821" y="17958"/>
                </a:lnTo>
                <a:lnTo>
                  <a:pt x="5968" y="16264"/>
                </a:lnTo>
                <a:lnTo>
                  <a:pt x="10232" y="14146"/>
                </a:lnTo>
                <a:lnTo>
                  <a:pt x="12505" y="11605"/>
                </a:lnTo>
                <a:lnTo>
                  <a:pt x="11368" y="9148"/>
                </a:lnTo>
                <a:lnTo>
                  <a:pt x="12221" y="7200"/>
                </a:lnTo>
                <a:lnTo>
                  <a:pt x="11368" y="5760"/>
                </a:lnTo>
                <a:lnTo>
                  <a:pt x="5400" y="3049"/>
                </a:lnTo>
                <a:lnTo>
                  <a:pt x="1705" y="254"/>
                </a:lnTo>
                <a:lnTo>
                  <a:pt x="14211" y="0"/>
                </a:lnTo>
                <a:lnTo>
                  <a:pt x="14495" y="50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/>
  <cp:revision>0</cp:revision>
  <dc:subject/>
  <dc:title>The Mystery of the Pyramids </dc:title>
</cp:coreProperties>
</file>